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F14C-90D1-4563-8A10-638508DD34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2AA2-5896-4E3B-A269-0737DA6587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B3BA-EB8A-426F-901C-F403FC6056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49C5-26B5-4978-AA38-02AF5F5C0A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09F6-1406-4CB6-8478-5D3DF8A679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9F09-CD50-4E09-91B5-06652D305E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75A9-BF4B-45B8-8C0E-534EE419E0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C223-B128-455E-A603-3981A9CBE10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2B0C-F8DD-4DEE-A456-C8992FF256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5D1E-9340-4407-8B3D-9875AC2A9B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CCCC-9BDA-4172-9B5A-3574DA501D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3542-BDB4-4DA4-A419-D08B202BB0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79E5-CE8A-4477-A685-8B016DD417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BBC7-EE0C-494D-AB44-724C815A5E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59C8-BD6E-459B-9ACD-0B53DBB762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9B70-7088-4951-89F2-F7E360394D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78FE-1479-48D6-ADC8-D37D54669F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85B3-D454-4D03-A3BC-2397A87395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C4C4-09F6-40CD-8C03-6980E71F96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186-285F-4370-8775-E2E71CF7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CA1-38B8-4EDB-9DD2-319FBE34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3DE6-30DD-42B3-AEB9-BA102126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389-73B9-42F2-B6CB-2171BE41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253F-8C2A-4F90-B7EF-A7BC1BEE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18A-AC5B-4DB5-BBC8-380EDF6F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399-0DA8-4C79-BA79-C101F1B7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720-1113-4E1B-9934-F908FA58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FAE-88F7-471D-8D1D-15CE2361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546-A498-41FB-AA29-D3B53BB3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778-31D0-477A-9E88-D35F2006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3CA-0074-4796-9722-4F26695D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5C04-EB3A-46B6-B837-A143AB65637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basic.income@nuim.i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187280" y="488880"/>
            <a:ext cx="676944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f81bd"/>
                </a:solidFill>
                <a:latin typeface="Calibri"/>
              </a:rPr>
              <a:t>Library Communiveris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alibri"/>
              </a:rPr>
              <a:t>Open Learning Cou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The Economy and Us: week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Work, employment, jobs, income secur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The Citizen’s Inc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wider definition of “work” – some basic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word ‘work’ has many possible interpretations; many people are ‘working’ without being employed in a ‘job’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Work is important to us, as individuals, becaus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700" spc="-1" strike="noStrike">
                <a:solidFill>
                  <a:srgbClr val="ff0000"/>
                </a:solidFill>
                <a:latin typeface="Calibri"/>
              </a:rPr>
              <a:t>it provides a ‘gateway’ to the formal economy, thereby providing an income through which we obtain our nee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alibri"/>
              </a:rPr>
              <a:t>work provides the means by which we engage with others and make a contribution to the well-being of ourselves and the planet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Work should be a source of satisfaction, which engages and develops our talen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rles Han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mbaedge.files.wordpress.com/2010/02/charles-handy.jpg"/>
          <p:cNvPicPr/>
          <p:nvPr/>
        </p:nvPicPr>
        <p:blipFill>
          <a:blip r:embed="rId1"/>
          <a:stretch/>
        </p:blipFill>
        <p:spPr>
          <a:xfrm>
            <a:off x="3419640" y="1484280"/>
            <a:ext cx="2232000" cy="359244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539640" y="53737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rish author &amp; philosopher,  born 1932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n of a Church of Ireland minister in Clane, Co Kildare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thor of many books including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he Hungry Spi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ur talents -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Charles Handy say they 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The three which define ‘clever’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Factu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nalyti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Numera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Linguis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Athle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Intu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Emotion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Prac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Mus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asic – or Citizen’s Income – an answer?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A basic income i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alibri"/>
              </a:rPr>
              <a:t>an unconditional 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</a:rPr>
              <a:t>payment to everyone on an individual basis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50"/>
                </a:solidFill>
                <a:latin typeface="Calibri"/>
              </a:rPr>
              <a:t>without any means test or work require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374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In a few words: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 every person (from children to the old) would receive a weekly (or monthly) tax-free payment from the governmen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All other personal income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would be tax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For a person who is unemployed, </a:t>
            </a: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the basic income payment would replace income from social welfare/social securit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For a person who is employed, </a:t>
            </a: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the basic income payment would replace the tax-free allowance or tax-credit in the income tax system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hildren – through their parents or guardians – would be includ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n we afford it?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 possibilities for thou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It would simplify the tax and social welfare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ersonal tax allowances would be reduced – and all extra income tax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It would remove social welfare fraud – and the consequent need for investigation and criminal procee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It could be done as part of the (urgent) requirement for monetary re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o we deserve it? 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flect on article 22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iversal Declaration of Human Rights (194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187280" y="1557360"/>
            <a:ext cx="66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2]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Everyon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 as a member of society, has the right to social security and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is entitled to realizatio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 through national effort and international co-operation and in accordance with the organization and resources of each State,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of the economic, social and cultural rights indispensable for his dignity and the free development of his persona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[Excuse the lack of gender inclusivity!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stablishing a basic or Citizen’s Income is a task for our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t would create a new way of seeing ourselves as citiz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t could release energies and creativity which are presently stif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t needs more thought to consider matters such as the entitlement of refugees and other inc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t has the potential to appeal to both the left and right in poli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t would ‘smooth out’ economic ups-and-dow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s this just fantas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Campaigns for a Basic Income are now worldw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Serious campaigners are fully aware of the problems as well as the opport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n Ireland, there is an active citizens’ movement (since 2011) examining the possibilities and difficul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To ‘hook into’ the Irish campaign, send an e-mail with your name to 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basic.income@nuim.i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Final comments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theme (jobs and work) brings together some of the earlier issues we have been discussing, in particul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The ‘well-being’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The reform of the monetary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The need to see investment in a wider definition of ‘capital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nventional view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Conventional economics handles the issues of work, jobs and employment bad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It speaks of  a ‘</a:t>
            </a:r>
            <a:r>
              <a:rPr b="1" lang="en-GB" sz="1700" spc="-1" strike="noStrike">
                <a:solidFill>
                  <a:srgbClr val="ff0000"/>
                </a:solidFill>
                <a:latin typeface="Calibri"/>
              </a:rPr>
              <a:t>labour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 market’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which ‘supply/demand’ relationships pre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which we are somewhat passive e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e are just an ‘input’ into ‘pro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N</a:t>
            </a:r>
            <a:r>
              <a:rPr b="0" lang="en-GB" sz="1800" spc="-1" strike="noStrike">
                <a:solidFill>
                  <a:srgbClr val="0070c0"/>
                </a:solidFill>
                <a:latin typeface="Calibri"/>
              </a:rPr>
              <a:t>o distinction is made between ‘work’, ‘job’ and ‘employment’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Calibri"/>
              </a:rPr>
              <a:t>There is a strong implication that ‘work’ is something to be minimised in favour of ‘leisure’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o distinction is made between leisure, rest, recreation, and enforced (and frustrating) idlenes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These are trivial treatments of serious issues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oblem with the conventional 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jessegoossens.nl/interviews/images/margaret.gif"/>
          <p:cNvPicPr/>
          <p:nvPr/>
        </p:nvPicPr>
        <p:blipFill>
          <a:blip r:embed="rId1"/>
          <a:stretch/>
        </p:blipFill>
        <p:spPr>
          <a:xfrm>
            <a:off x="392040" y="1482840"/>
            <a:ext cx="1868400" cy="3592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3203640" y="1482840"/>
            <a:ext cx="5689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“…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current system raises serious questions about what constitutes work and how it should be related to incom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rough the ages mankind has assumed that income must be the result of work for which someone else is prepared to pa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ut finding work is no longer an obvious process … it is now at the mercy of international forces and globalised capital.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garet Legum, South African Econom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933- 20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24000" y="4921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ore from Margaret Legum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258920" y="2060640"/>
            <a:ext cx="698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t we still punish people who cannot find employ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know that full employment in the old sense - a paid job for anyone who can and wants to have one - is a thing of the pas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e have not worked out how to distribute income if employment is not available and feasible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QUB P&amp;SD 2011/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E9D5-F3B8-4D39-8604-E10E5924305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315234f77e06c58db60e12adebc349c3cca23500b2dfb7d5bb7740acb5a8ad0f"/>
          <p:cNvPicPr/>
          <p:nvPr/>
        </p:nvPicPr>
        <p:blipFill>
          <a:blip r:embed="rId1"/>
          <a:stretch/>
        </p:blipFill>
        <p:spPr>
          <a:xfrm>
            <a:off x="1690560" y="1695600"/>
            <a:ext cx="5762880" cy="34668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611280" y="53737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ONG QUEUES FORMED early this morning in front of the RDS in Dublin as thousands of people headed to the Working Abroad Expo. [8 March 2012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900000" y="476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Hell of a way to run an econom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Job creation’ as a solution …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Depends on the nature  of the 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he ‘job’ cannot be simply making ‘things’ (‘stuff’):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e cannot afford to waste people and waste resources. There are ‘tasks for our times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‘lump-of-labour’ falla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The (mistaken) view that there is a limited amount of work to be don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It underlies the idea that job sharing and early retirement will create more ‘jobs’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although  there are many good reasons why job sharing and early retirement is a good id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The view that ‘there is no work around here’ is likewise nonsens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The task of building a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lower carbon based economy based will require a large range of skills, and should provide paid employment for all for years ahea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This is more than a sufficient challenge for the present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asting people – some of the causes;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eed for new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e collapse or withdrawal of a major employ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e loss of a local source of natural resour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Economic rece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Poor local infra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All these matters require new thin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asting people – the conseque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Personal energy is channeled into undesirable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Ill health arises, requiring inter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Poverty develops or wors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Because of the lack of spending power, other economic activity decline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… thereby adding to the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2:36:19Z</dcterms:created>
  <dc:creator>Tony Weekes</dc:creator>
  <dc:description/>
  <dc:language>en-US</dc:language>
  <cp:lastModifiedBy>Tony Weekes</cp:lastModifiedBy>
  <dcterms:modified xsi:type="dcterms:W3CDTF">2013-02-26T10:22:34Z</dcterms:modified>
  <cp:revision>25</cp:revision>
  <dc:subject/>
  <dc:title>PowerPoint Presentation</dc:title>
</cp:coreProperties>
</file>