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2F51A-32E1-4337-89C3-7331352A4BE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E029A-DFF7-43A4-A624-CF4E4C25321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0E3C7-19C0-4AA4-9AF4-2BDF4F24519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D71AA-DC04-4CF6-8A8D-D27BF32B1B0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8FD0F-5E1F-4711-A037-F206E7E2BDC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8DB15-E873-4C49-B927-CBCC4F248CF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7A1F9-F214-4B2F-828C-A1A217B9333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F1C40-E540-4120-A4A2-043A84C4639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79BD4-162E-4346-9D54-D44709A4CAB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765E9-FE9D-4395-81E4-6D27A6D3337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AC188-0541-4E6A-8669-BA27D9A095A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1BB3D-B552-4B78-90EC-92D6AFCE69E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E87A8-D9AD-4C1C-9418-D1258A04DA5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0B484-CC93-4001-985B-5B452E06395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A7B9F-615F-4DA2-89CF-9BAB521B704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529CA-ACA8-4BBC-9733-6F169057E2E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00391-23D3-4D04-B40A-E1AF432B866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06A43-2C69-4EF7-99BE-792419264BA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E5370-008D-4C2D-98C8-39C75A36F81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9D5D-AD61-464B-AFBA-3EF3563F8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D371-92F9-4D75-B841-21995964E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58FA-3145-4C50-BEFE-0594B8F0B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9CD6-E2D3-484B-B5B5-E76824A54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8DB7-722E-4ED9-9858-37A4A7000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2900-9E11-4E98-86CD-10C4E0CB0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299C-2DF1-4DBA-A027-9A995D8A8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CD41-0D8D-4978-B808-276E28A5A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C8B8-E4C6-4A06-9FE3-D60763F12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61F3-6F55-4ED8-8196-AD6047CBD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E513-A92F-4741-98E3-19214C9B0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D6A7-433B-46DA-BD2F-0A0B63142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16BEC-4F73-4C8A-B399-D1F891B8E3E3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mailto:basic.income@nuim.ie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1187280" y="488880"/>
            <a:ext cx="6769440" cy="46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f81bd"/>
                </a:solidFill>
                <a:latin typeface="Calibri"/>
              </a:rPr>
              <a:t>Library Communiverist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f81bd"/>
                </a:solidFill>
                <a:latin typeface="Calibri"/>
              </a:rPr>
              <a:t>Open Learning Cour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050"/>
                </a:solidFill>
                <a:latin typeface="Calibri"/>
              </a:rPr>
              <a:t>The Economy and Us: week 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060"/>
                </a:solidFill>
                <a:latin typeface="Calibri"/>
              </a:rPr>
              <a:t>Work, employment, jobs, income security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060"/>
                </a:solidFill>
                <a:latin typeface="Calibri"/>
              </a:rPr>
              <a:t>The Citizen’s Inco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wider definition of “work” – some basic poi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The word ‘work’ has many possible interpretations; many people are ‘working’ without being employed in a ‘job’.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Work is important to us, as individuals, becaus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1700" spc="-1" strike="noStrike">
                <a:solidFill>
                  <a:srgbClr val="ff0000"/>
                </a:solidFill>
                <a:latin typeface="Calibri"/>
              </a:rPr>
              <a:t>it provides a ‘gateway’ to the formal economy, thereby providing an income through which we obtain our need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0000"/>
                </a:solidFill>
                <a:latin typeface="Calibri"/>
              </a:rPr>
              <a:t>work provides the means by which we engage with others and make a contribution to the well-being of ourselves and the planet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;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Work should be a source of satisfaction, which engages and develops our talent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harles Hand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http://mbaedge.files.wordpress.com/2010/02/charles-handy.jpg"/>
          <p:cNvPicPr/>
          <p:nvPr/>
        </p:nvPicPr>
        <p:blipFill>
          <a:blip r:embed="rId1"/>
          <a:stretch/>
        </p:blipFill>
        <p:spPr>
          <a:xfrm>
            <a:off x="3419640" y="1484280"/>
            <a:ext cx="2232000" cy="3592440"/>
          </a:xfrm>
          <a:prstGeom prst="rect">
            <a:avLst/>
          </a:prstGeom>
          <a:ln w="0">
            <a:noFill/>
          </a:ln>
        </p:spPr>
      </p:pic>
      <p:sp>
        <p:nvSpPr>
          <p:cNvPr id="74" name="TextBox 4"/>
          <p:cNvSpPr/>
          <p:nvPr/>
        </p:nvSpPr>
        <p:spPr>
          <a:xfrm>
            <a:off x="539640" y="5373720"/>
            <a:ext cx="835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rish author &amp; philosopher,  born 1932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Son of a Church of Ireland minister in Clane, Co Kildare.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Author of many books including </a:t>
            </a: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The Hungry Spir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Our talents - 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hat does Charles Handy say they ar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The three which define ‘clever’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alibri"/>
              </a:rPr>
              <a:t>Factua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alibri"/>
              </a:rPr>
              <a:t>Analytic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alibri"/>
              </a:rPr>
              <a:t>Numerat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Oth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b050"/>
                </a:solidFill>
                <a:latin typeface="Calibri"/>
              </a:rPr>
              <a:t>Linguist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b050"/>
                </a:solidFill>
                <a:latin typeface="Calibri"/>
              </a:rPr>
              <a:t>Athlet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b050"/>
                </a:solidFill>
                <a:latin typeface="Calibri"/>
              </a:rPr>
              <a:t>Intuiti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b050"/>
                </a:solidFill>
                <a:latin typeface="Calibri"/>
              </a:rPr>
              <a:t>Emotiona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b050"/>
                </a:solidFill>
                <a:latin typeface="Calibri"/>
              </a:rPr>
              <a:t>Practic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b050"/>
                </a:solidFill>
                <a:latin typeface="Calibri"/>
              </a:rPr>
              <a:t>Interperso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b050"/>
                </a:solidFill>
                <a:latin typeface="Calibri"/>
              </a:rPr>
              <a:t>Music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Basic – or Citizen’s Income – an answer?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Calibri"/>
              </a:rPr>
              <a:t>A basic income is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alibri"/>
              </a:rPr>
              <a:t>an unconditional </a:t>
            </a:r>
            <a:r>
              <a:rPr b="0" lang="en-GB" sz="1600" spc="-1" strike="noStrike">
                <a:solidFill>
                  <a:srgbClr val="00b050"/>
                </a:solidFill>
                <a:latin typeface="Calibri"/>
              </a:rPr>
              <a:t>payment to everyone on an individual basis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b050"/>
                </a:solidFill>
                <a:latin typeface="Calibri"/>
              </a:rPr>
              <a:t>without any means test or work requirement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374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060"/>
                </a:solidFill>
                <a:latin typeface="Calibri"/>
              </a:rPr>
              <a:t>In a few words: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 every person (from children to the old) would receive a weekly (or monthly) tax-free payment from the government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060"/>
                </a:solidFill>
                <a:latin typeface="Calibri"/>
              </a:rPr>
              <a:t>All other personal income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would be tax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For a person who is unemployed, </a:t>
            </a:r>
            <a:r>
              <a:rPr b="0" lang="en-GB" sz="1800" spc="-1" strike="noStrike">
                <a:solidFill>
                  <a:srgbClr val="002060"/>
                </a:solidFill>
                <a:latin typeface="Calibri"/>
              </a:rPr>
              <a:t>the basic income payment would replace income from social welfare/social security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For a person who is employed, </a:t>
            </a:r>
            <a:r>
              <a:rPr b="0" lang="en-GB" sz="1800" spc="-1" strike="noStrike">
                <a:solidFill>
                  <a:srgbClr val="002060"/>
                </a:solidFill>
                <a:latin typeface="Calibri"/>
              </a:rPr>
              <a:t>the basic income payment would replace the tax-free allowance or tax-credit in the income tax system.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Children – through their parents or guardians – would be include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an we afford it?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ome possibilities for though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Calibri"/>
              </a:rPr>
              <a:t>It would simplify the tax and social welfare 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alibri"/>
              </a:rPr>
              <a:t>Personal tax allowances would be reduced – and all extra income tax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Calibri"/>
              </a:rPr>
              <a:t>It would remove social welfare fraud – and the consequent need for investigation and criminal proceeding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Calibri"/>
              </a:rPr>
              <a:t>It could be done as part of the (urgent) requirement for monetary refor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o we deserve it? </a:t>
            </a:r>
            <a:br>
              <a:rPr sz="2800"/>
            </a:b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eflect on article 22,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Universal Declaration of Human Rights (1948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3"/>
          <p:cNvSpPr/>
          <p:nvPr/>
        </p:nvSpPr>
        <p:spPr>
          <a:xfrm>
            <a:off x="1187280" y="1557360"/>
            <a:ext cx="6697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22]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ff0000"/>
                </a:solidFill>
                <a:latin typeface="Calibri"/>
              </a:rPr>
              <a:t>Everyone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, as a member of society, has the right to social security and </a:t>
            </a:r>
            <a:r>
              <a:rPr b="0" i="1" lang="en-US" sz="2400" spc="-1" strike="noStrike">
                <a:solidFill>
                  <a:srgbClr val="ff0000"/>
                </a:solidFill>
                <a:latin typeface="Calibri"/>
              </a:rPr>
              <a:t>is entitled to realization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, through national effort and international co-operation and in accordance with the organization and resources of each State, </a:t>
            </a:r>
            <a:r>
              <a:rPr b="0" i="1" lang="en-US" sz="2400" spc="-1" strike="noStrike">
                <a:solidFill>
                  <a:srgbClr val="ff0000"/>
                </a:solidFill>
                <a:latin typeface="Calibri"/>
              </a:rPr>
              <a:t>of the economic, social and cultural rights indispensable for his dignity and the free development of his personalit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[Excuse the lack of gender inclusivity!]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stablishing a basic or Citizen’s Income is a task for our ti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050"/>
                </a:solidFill>
                <a:latin typeface="Calibri"/>
              </a:rPr>
              <a:t>It would create a new way of seeing ourselves as citize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050"/>
                </a:solidFill>
                <a:latin typeface="Calibri"/>
              </a:rPr>
              <a:t>It could release energies and creativity which are presently stif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050"/>
                </a:solidFill>
                <a:latin typeface="Calibri"/>
              </a:rPr>
              <a:t>It needs more thought to consider matters such as the entitlement of refugees and other incom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050"/>
                </a:solidFill>
                <a:latin typeface="Calibri"/>
              </a:rPr>
              <a:t>It has the potential to appeal to both the left and right in politic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050"/>
                </a:solidFill>
                <a:latin typeface="Calibri"/>
              </a:rPr>
              <a:t>It would ‘smooth out’ economic ups-and-dow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Is this just fantasy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Campaigns for a Basic Income are now worldwi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Serious campaigners are fully aware of the problems as well as the opportun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In Ireland, there is an active citizens’ movement (since 2011) examining the possibilities and difficul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To ‘hook into’ the Irish campaign, send an e-mail with your name to </a:t>
            </a:r>
            <a:r>
              <a:rPr b="0" lang="en-GB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basic.income@nuim.i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Final comments 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is theme (jobs and work) brings together some of the earlier issues we have been discussing, in particula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The ‘well-being’ econom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The reform of the monetary 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The need to see investment in a wider definition of ‘capital’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he conventional view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Calibri"/>
              </a:rPr>
              <a:t>Conventional economics handles the issues of work, jobs and employment badl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0000"/>
                </a:solidFill>
                <a:latin typeface="Calibri"/>
              </a:rPr>
              <a:t>It speaks of  a ‘</a:t>
            </a:r>
            <a:r>
              <a:rPr b="1" lang="en-GB" sz="1700" spc="-1" strike="noStrike">
                <a:solidFill>
                  <a:srgbClr val="ff0000"/>
                </a:solidFill>
                <a:latin typeface="Calibri"/>
              </a:rPr>
              <a:t>labour</a:t>
            </a:r>
            <a:r>
              <a:rPr b="1" lang="en-US" sz="1700" spc="-1" strike="noStrike">
                <a:solidFill>
                  <a:srgbClr val="ff0000"/>
                </a:solidFill>
                <a:latin typeface="Calibri"/>
              </a:rPr>
              <a:t> market’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 which ‘supply/demand’ relationships prevai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 which we are somewhat passive elem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we are just an ‘input’ into ‘produc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Calibri"/>
              </a:rPr>
              <a:t>N</a:t>
            </a:r>
            <a:r>
              <a:rPr b="0" lang="en-GB" sz="1800" spc="-1" strike="noStrike">
                <a:solidFill>
                  <a:srgbClr val="0070c0"/>
                </a:solidFill>
                <a:latin typeface="Calibri"/>
              </a:rPr>
              <a:t>o distinction is made between ‘work’, ‘job’ and ‘employment’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70c0"/>
                </a:solidFill>
                <a:latin typeface="Calibri"/>
              </a:rPr>
              <a:t>There is a strong implication that ‘work’ is something to be minimised in favour of ‘leisure’.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No distinction is made between leisure, rest, recreation, and enforced (and frustrating) idlenes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Calibri"/>
              </a:rPr>
              <a:t>These are trivial treatments of serious issues</a:t>
            </a:r>
            <a:r>
              <a:rPr b="0" lang="en-GB" sz="20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The problem with the conventional view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http://www.jessegoossens.nl/interviews/images/margaret.gif"/>
          <p:cNvPicPr/>
          <p:nvPr/>
        </p:nvPicPr>
        <p:blipFill>
          <a:blip r:embed="rId1"/>
          <a:stretch/>
        </p:blipFill>
        <p:spPr>
          <a:xfrm>
            <a:off x="392040" y="1482840"/>
            <a:ext cx="1868400" cy="3592440"/>
          </a:xfrm>
          <a:prstGeom prst="rect">
            <a:avLst/>
          </a:prstGeom>
          <a:ln w="0">
            <a:noFill/>
          </a:ln>
        </p:spPr>
      </p:pic>
      <p:sp>
        <p:nvSpPr>
          <p:cNvPr id="53" name="TextBox 3"/>
          <p:cNvSpPr/>
          <p:nvPr/>
        </p:nvSpPr>
        <p:spPr>
          <a:xfrm>
            <a:off x="3203640" y="1482840"/>
            <a:ext cx="56894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“…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the current system raises serious questions about what constitutes work and how it should be related to income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Through the ages mankind has assumed that income must be the result of work for which someone else is prepared to pay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But finding work is no longer an obvious process … it is now at the mercy of international forces and globalised capital.”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Margaret Legum, South African Economi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1933- 200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1"/>
          <p:cNvSpPr/>
          <p:nvPr/>
        </p:nvSpPr>
        <p:spPr>
          <a:xfrm>
            <a:off x="324000" y="492120"/>
            <a:ext cx="86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More from Margaret Legum 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2"/>
          <p:cNvSpPr/>
          <p:nvPr/>
        </p:nvSpPr>
        <p:spPr>
          <a:xfrm>
            <a:off x="1258920" y="2060640"/>
            <a:ext cx="6985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et we still punish people who cannot find employme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 know that full employment in the old sense - a paid job for anyone who can and wants to have one - is a thing of the past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We have not worked out how to distribute income if employment is not available and feasible.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QUB P&amp;SD 2011/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2B8AA-ED38-4BA4-8E68-D9D6E91624FE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100"/>
            </a:br>
            <a:br>
              <a:rPr sz="2100"/>
            </a:br>
            <a:br>
              <a:rPr sz="2100"/>
            </a:b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6" descr="315234f77e06c58db60e12adebc349c3cca23500b2dfb7d5bb7740acb5a8ad0f"/>
          <p:cNvPicPr/>
          <p:nvPr/>
        </p:nvPicPr>
        <p:blipFill>
          <a:blip r:embed="rId1"/>
          <a:stretch/>
        </p:blipFill>
        <p:spPr>
          <a:xfrm>
            <a:off x="1690560" y="1695600"/>
            <a:ext cx="5762880" cy="34668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7"/>
          <p:cNvSpPr/>
          <p:nvPr/>
        </p:nvSpPr>
        <p:spPr>
          <a:xfrm>
            <a:off x="611280" y="537372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LONG QUEUES FORMED early this morning in front of the RDS in Dublin as thousands of people headed to the Working Abroad Expo. [8 March 2012]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 Box 8"/>
          <p:cNvSpPr/>
          <p:nvPr/>
        </p:nvSpPr>
        <p:spPr>
          <a:xfrm>
            <a:off x="900000" y="47628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Hell of a way to run an economy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Job creation’ as a solution …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70c0"/>
                </a:solidFill>
                <a:latin typeface="Calibri"/>
              </a:rPr>
              <a:t>Depends on the nature  of the jo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70c0"/>
                </a:solidFill>
                <a:latin typeface="Calibri"/>
              </a:rPr>
              <a:t>The ‘job’ cannot be simply making ‘things’ (‘stuff’): </a:t>
            </a:r>
            <a:r>
              <a:rPr b="0" lang="en-GB" sz="3200" spc="-1" strike="noStrike">
                <a:solidFill>
                  <a:srgbClr val="ff0000"/>
                </a:solidFill>
                <a:latin typeface="Calibri"/>
              </a:rPr>
              <a:t>we cannot afford to waste people and waste resources. There are ‘tasks for our times’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The ‘lump-of-labour’ fallac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70c0"/>
                </a:solidFill>
                <a:latin typeface="Calibri"/>
              </a:rPr>
              <a:t>The (mistaken) view that there is a limited amount of work to be done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70c0"/>
                </a:solidFill>
                <a:latin typeface="Calibri"/>
              </a:rPr>
              <a:t>It underlies the idea that job sharing and early retirement will create more ‘jobs’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b050"/>
                </a:solidFill>
                <a:latin typeface="Calibri"/>
              </a:rPr>
              <a:t>although  there are many good reasons why job sharing and early retirement is a good id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70c0"/>
                </a:solidFill>
                <a:latin typeface="Calibri"/>
              </a:rPr>
              <a:t>The view that ‘there is no work around here’ is likewise nonsense.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alibri"/>
              </a:rPr>
              <a:t>The task of building a 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lower carbon based economy based will require a large range of skills, and should provide paid employment for all for years ahead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Calibri"/>
              </a:rPr>
              <a:t>This is more than a sufficient challenge for the present.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asting people – some of the causes;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eed for new think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The collapse or withdrawal of a major employ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The loss of a local source of natural resourc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Economic recess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Poor local infrastructu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70c0"/>
                </a:solidFill>
                <a:latin typeface="Calibri"/>
              </a:rPr>
              <a:t>…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All these matters require new think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Wasting people – the consequenc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Personal energy is channeled into undesirable activ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Ill health arises, requiring interven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Poverty develops or wors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Because of the lack of spending power, other economic activity declines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… thereby adding to the proble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8T12:36:19Z</dcterms:created>
  <dc:creator>Tony Weekes</dc:creator>
  <dc:description/>
  <dc:language>en-US</dc:language>
  <cp:lastModifiedBy>Tony Weekes</cp:lastModifiedBy>
  <dcterms:modified xsi:type="dcterms:W3CDTF">2013-02-26T10:22:34Z</dcterms:modified>
  <cp:revision>25</cp:revision>
  <dc:subject/>
  <dc:title>PowerPoint Presentation</dc:title>
</cp:coreProperties>
</file>