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7C22-FDAD-4BC8-A9A3-BFF052D0790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C087-E8F9-4148-80FC-0A2FDCB97FF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23EA-1B3B-44FC-831D-8CEBC60619C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FFAB-98BA-48A0-9061-A85DAE8F014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3E7A-336D-4A52-877C-B9B22778636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5413-E2FF-4EE4-A7DD-519B1D3A91A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6BAA-0D9E-4BC0-BFF8-D1464A2E675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2303-CA3C-4A3F-9544-32695D6B7EB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7584-8D8C-4D47-BEF3-E606996E67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77FA-B9B5-4AB9-ACA8-8C98986EC07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E60E-B834-4F96-AFC9-7F592F18992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2286-92EF-4F34-8176-E245DCCB953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9350-4FE9-4B8E-B4C8-9D941F93440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BDCD-CBD8-4E48-88EE-B13129BEC5D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A017-21F3-4B82-99DF-029197780FA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D0C5-F714-45FF-8CAA-F3E19704CF8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0C2E-54A8-4E82-8959-E630948B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A93F-FD07-4B24-B6DA-05F325C5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160A-8424-43D6-8FBD-61AA0D293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539C-0F99-41F9-B1BB-B585810E6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6DAE-B055-4041-88FB-10A858C2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FCFC-35BC-4C98-866A-0F1517D6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902D-7C59-4D68-B54B-88D16B1F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EFD0-6037-4AE6-B161-F0DE8F76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7ED3-C057-421A-8E8F-AC88FF10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D4BD-F62D-464D-A338-42EE5483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5AC6-3B21-44DE-AB3E-0F209BC7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DA3D-D92A-4EEF-A40D-88B06BB4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1A2F-1945-4529-BC95-7909ECEAE32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176480" y="349200"/>
            <a:ext cx="656424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f81bd"/>
                </a:solidFill>
                <a:latin typeface="Calibri"/>
              </a:rPr>
              <a:t>Library Communiveris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81bd"/>
                </a:solidFill>
                <a:latin typeface="Calibri"/>
              </a:rPr>
              <a:t>Open Learning Cour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The Economy and Us: week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Money, banking … and fi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The elephants in the ro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This is a complex set of issues and some aspects can only be dealt with in bare out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Some suggestions for follow-up are avail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uld there be (is there?) such a thing as a ‘good’ ba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50"/>
                </a:solidFill>
                <a:latin typeface="Calibri"/>
              </a:rPr>
              <a:t>What principles would guide its wor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re’s an example of a ‘good’ bank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o you agre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1332000" y="2205000"/>
            <a:ext cx="662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alibri"/>
              </a:rPr>
              <a:t>The videos which follows describes the work of the German GLS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ttp://www.youtube.com/watch?v=3kElRGPg7BA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ttps://www.youtube.com/watch?v=1dhb7KzUieI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re are other examp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Triodos Ba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Operations in Netherlands, Belgium, Spain and the U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The ASN Bank (‘General Savings Bank of the Netherla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‘</a:t>
            </a: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For the world of tomorrow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Will only finance work in the area of renewable energy, ‘good work’, recycling,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Global Alliance for Banking on Values (GABV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900000" y="2708280"/>
            <a:ext cx="748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Take a look at the websit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ttp://www.gabv.org/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Debt and interest: some moral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Are we always required to repay deb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Is ‘interest’ on loans inevitab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If so … where does the ‘money’ to pay the interest come fro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What are its other consequenc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971640" y="50846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I am not offering answers to these questions – only pointing out some issues of economic just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Debt – some things on which to refl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 contract – whether for trade or finance needs to have a reasonable balance, with neither side having undue power over the oth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re are assumption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that both sides have entered into the contract with good intentions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that both sides understand and accept the risk and uncertainty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that some measure of economic (and political) stability will remai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ome issues for this ses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70c0"/>
                </a:solidFill>
                <a:latin typeface="Calibri"/>
              </a:rPr>
              <a:t>Money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50"/>
                </a:solidFill>
                <a:latin typeface="Calibri"/>
              </a:rPr>
              <a:t>What is ‘money’?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50"/>
                </a:solidFill>
                <a:latin typeface="Calibri"/>
              </a:rPr>
              <a:t>Where does it come from?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50"/>
                </a:solidFill>
                <a:latin typeface="Calibri"/>
              </a:rPr>
              <a:t>What are the consequences of this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50"/>
                </a:solidFill>
                <a:latin typeface="Calibri"/>
              </a:rPr>
              <a:t>Can it/should it be reforme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b05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70c0"/>
                </a:solidFill>
                <a:latin typeface="Calibri"/>
              </a:rPr>
              <a:t>Banking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50"/>
                </a:solidFill>
                <a:latin typeface="Calibri"/>
              </a:rPr>
              <a:t>What do banks do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50"/>
                </a:solidFill>
                <a:latin typeface="Calibri"/>
              </a:rPr>
              <a:t>Do we need banks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50"/>
                </a:solidFill>
                <a:latin typeface="Calibri"/>
              </a:rPr>
              <a:t>Could there be a ‘good’ bank?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Debt and interest: these issues raise moral questions – I can only suggest some ways of thinking about the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How does a bank account wor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When we ‘put money’ into a bank account, does the bank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Put it into a box marked with our name (so we can get it later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Simply note that we have this amount of money to draw 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What else do banks do – some answers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Provide means to make pay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Provide overdrafts, loans and mortg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Provide savings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What else do banks d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Could we manage without bank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ome questions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What is ‘money’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What (in banking terms) is ‘liquidity’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[These questions are related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ome more ques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What are a bank’s (financial) asse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What are its liabiliti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oes a bank ‘lend’ the money which its depositors have placed with 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Should banks charge interest on a loan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Here’s Ben Dyson of the (British) </a:t>
            </a:r>
            <a:r>
              <a:rPr b="1" i="1" lang="en-GB" sz="2400" spc="-1" strike="noStrike">
                <a:solidFill>
                  <a:srgbClr val="ff0000"/>
                </a:solidFill>
                <a:latin typeface="Calibri"/>
              </a:rPr>
              <a:t>Positive Money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Campaign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This is based on UK experience, but the Euro system is (with some changes) the same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98989"/>
                </a:solidFill>
                <a:latin typeface="Calibri"/>
              </a:rPr>
              <a:t>https://www.youtube.com/watch?v=nc6kKOGp56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OK – let’s reflect on th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Can we put this in (other) simple ter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What are the consequence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Should it be reform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2:24:20Z</dcterms:created>
  <dc:creator>Tony Weekes</dc:creator>
  <dc:description/>
  <dc:language>en-US</dc:language>
  <cp:lastModifiedBy>Tony Weekes</cp:lastModifiedBy>
  <cp:lastPrinted>2013-02-17T11:15:42Z</cp:lastPrinted>
  <dcterms:modified xsi:type="dcterms:W3CDTF">2013-02-17T12:15:43Z</dcterms:modified>
  <cp:revision>14</cp:revision>
  <dc:subject/>
  <dc:title>PowerPoint Presentation</dc:title>
</cp:coreProperties>
</file>