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1B21-FD02-4495-8C43-5BC77C08FF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4701-EBEC-4F56-9F82-721A4B993D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2000-8566-4BF7-9485-7DBD25315B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3039-94DE-47A3-B06A-659995C5C1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DE91-C6FB-4876-A346-DEA9025C3F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5F7C-FB6B-4F15-869F-F46F15F592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6EC-DAB4-4E3D-B974-76F2C44F19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D985-DF70-4552-BF13-5B8B1A4B6A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4838-2630-4E6C-ABB5-CD1CF83ADB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192C-1AC2-4D68-BEE4-36C1D3CFBC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D27A-25D0-47B6-8E3D-EA8FB9E3B1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96F4-6944-44A0-8875-DC7C1013F2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ADC-9C0B-4418-923B-BAC286CBAA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AA0F-EBA3-47F6-8BCB-C3B617E904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DA14-75ED-4BA0-A8EE-F62A51C58A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701C-E75A-45B3-BD4C-E3534E85E0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956-F8B2-4D51-8611-FF1B57A2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FEC-B7B0-4873-81AE-F620550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705-6DDE-4520-BB24-4EAF90B1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667-9DB2-4ECE-8FCC-0D041F4A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E07-03A3-4315-A04F-B207D18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E16-8B4F-4707-97E0-2B8B2D8A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3E1-C6C1-463A-89C3-615C69E3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A88-2648-43B7-BB9E-663E7676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118-92B7-4B85-9BAE-8E766DEC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7B3-B3F2-431E-B26A-14AA0E02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E01-AC9A-43E5-B508-A4FAA69F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037-E993-428C-8E92-209F913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12D4-F257-4F6F-A37E-A58B5BA534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76480" y="349200"/>
            <a:ext cx="65642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f81bd"/>
                </a:solidFill>
                <a:latin typeface="Calibri"/>
              </a:rPr>
              <a:t>Library Communiveris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Open Learning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Economy and Us: week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Money, banking … and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elephants in the 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his is a complex set of issues and some aspects can only be dealt with in bare out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ome suggestions for follow-up ar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ld there be (is there?) such a thing as a ‘good’ ba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What principles would guide its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e’s an example of a ‘good’ ban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 you agr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332000" y="2205000"/>
            <a:ext cx="66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The videos which follows describes the work of the German GLS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www.youtube.com/watch?v=3kElRGPg7BA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s://www.youtube.com/watch?v=1dhb7KzUieI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re are other exam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riodo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Operations in Netherlands, Belgium, Spain and the 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 ASN Bank (‘General Savings Bank of the Netherla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For the world of tomorrow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Will only finance work in the area of renewable energy, ‘good work’, recycl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Global Alliance for Banking on Values (GABV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900000" y="270828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ake a look at the websit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www.gabv.org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bt and interest: some moral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e we always required to repay deb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Is ‘interest’ on loans inevita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If so … where does the ‘money’ to pay the interest come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are its other consequen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971640" y="5084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I am not offering answers to these questions – only pointing out some issues of economic jus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bt – some things on which to ref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contract – whether for trade or finance needs to have a reasonable balance, with neither side having undue power over the 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re are assumption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at both sides have entered into the contract with good intentions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at both sides understand and accept the risk and uncertaint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at some measure of economic (and political) stability will remai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me issues for this s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Mone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at is ‘money’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ere does it come from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at are the consequences of thi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Can it/should it be reform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Banking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at do banks d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Do we need bank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Could there be a ‘good’ bank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Debt and interest: these issues raise moral questions – I can only suggest some ways of thinking about th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w does a bank account wor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en we ‘put money’ into a bank account, does the ban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Put it into a box marked with our name (so we can get it later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Simply note that we have this amount of money to draw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else do banks do – some answer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rovide means to make pay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rovide overdrafts, loans and mortg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rovide savings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else do banks d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ould we manage without bank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me questions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is ‘money’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(in banking terms) is ‘liquidity’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[These questions are related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me more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are a bank’s (financial) ass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are its liabi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oes a bank ‘lend’ the money which its depositors have placed with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hould banks charge interest on a lo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Here’s Ben Dyson of the (British)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Positive Money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ampaign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This is based on UK experience, but the Euro system is (with some changes) the same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https://www.youtube.com/watch?v=nc6kKOGp56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K – let’s reflect on th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Can we put this in (other) simple te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hat are the consequenc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Should it be reform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2:24:20Z</dcterms:created>
  <dc:creator>Tony Weekes</dc:creator>
  <dc:description/>
  <dc:language>en-US</dc:language>
  <cp:lastModifiedBy>Tony Weekes</cp:lastModifiedBy>
  <cp:lastPrinted>2013-02-17T11:15:42Z</cp:lastPrinted>
  <dcterms:modified xsi:type="dcterms:W3CDTF">2013-02-17T12:15:43Z</dcterms:modified>
  <cp:revision>14</cp:revision>
  <dc:subject/>
  <dc:title>PowerPoint Presentation</dc:title>
</cp:coreProperties>
</file>