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B7E6-DBCE-49B4-9CC3-6FB513D75E8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40EE-762B-453E-B888-17FE09529A4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F889-2159-44F6-A7E2-12CD1B258AB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B4B0-3235-4F92-B560-99CFB01012A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9392-DE62-4732-AA01-2F132FF5084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B84E-CCE1-4F16-911E-63A5BA00329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F408-4A85-47BB-8156-1E00CD3FDF2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FCBB-3093-49F2-AB57-81C18BE1C94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8102-1693-4A56-AE19-40AFE9FF4F2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25B3-6292-4AE3-B118-5861E102A6F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57F2-0FC2-4846-984F-71904737D8C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A272-FB3C-4518-92F8-8917F1ADAF5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385A-D8DA-4350-A24D-5B8A8FE9B20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2AF7-75FB-4294-AC47-A15E5F86B80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EF85-836E-4922-8683-5ADC90C070F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7E27-6FEB-4239-B9AC-372AECC3CCE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5D0D-4680-44CB-A492-5E0D6FDD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9950-492E-41E7-9DAB-F4B6DCA8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2432-6DDC-4310-8CBC-9A91E4495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F6C7-EC34-4A29-BB41-17E63A90A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C5EC-FF36-4784-8DAA-1247549E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CB2C-14DF-422B-97D3-9D448A3F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2D82-1321-4169-91FD-F687A49F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FA5A-2C4B-4F22-849B-2EBF24ED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4F3B-DC38-49DE-BBE3-579A4BD8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D9B2-1E87-4EBB-8AC9-A7EE15F1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8DF2-8A0B-4E7D-B46E-372F4D92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A25C-8966-4B2A-BA8A-5ECC1CFA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F4C0-7085-47D9-A852-B44A58904EC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176480" y="349200"/>
            <a:ext cx="656424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f81bd"/>
                </a:solidFill>
                <a:latin typeface="Calibri"/>
              </a:rPr>
              <a:t>Library Communiveris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81bd"/>
                </a:solidFill>
                <a:latin typeface="Calibri"/>
              </a:rPr>
              <a:t>Open Learning Cour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The Economy and Us: week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alibri"/>
              </a:rPr>
              <a:t>Money, banking … and fin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alibri"/>
              </a:rPr>
              <a:t>The elephants in the ro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This is a complex set of issues and some aspects can only be dealt with in bare outl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Some suggestions for follow-up are avail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uld there be (is there?) such a thing as a ‘good’ ba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50"/>
                </a:solidFill>
                <a:latin typeface="Calibri"/>
              </a:rPr>
              <a:t>What principles would guide its wor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ere’s an example of a ‘good’ bank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o you agre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1332000" y="2205000"/>
            <a:ext cx="6624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alibri"/>
              </a:rPr>
              <a:t>The videos which follows describes the work of the German GLS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ttp://www.youtube.com/watch?v=3kElRGPg7BA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ttps://www.youtube.com/watch?v=1dhb7KzUieI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re are other examp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Triodos Ban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Operations in Netherlands, Belgium, Spain and the U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The ASN Bank (‘General Savings Bank of the Netherla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‘</a:t>
            </a: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For the world of tomorrow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Will only finance work in the area of renewable energy, ‘good work’, recycling,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Global Alliance for Banking on Values (GABV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900000" y="2708280"/>
            <a:ext cx="748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Take a look at the websit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ttp://www.gabv.org/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Debt and interest: some moral iss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Are we always required to repay deb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Is ‘interest’ on loans inevitab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If so … where does the ‘money’ to pay the interest come fro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What are its other consequenc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971640" y="50846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I am not offering answers to these questions – only pointing out some issues of economic just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Debt – some things on which to refl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 contract – whether for trade or finance needs to have a reasonable balance, with neither side having undue power over the othe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re are assumption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that both sides have entered into the contract with good intentions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that both sides understand and accept the risk and uncertainty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that some measure of economic (and political) stability will remai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Some issues for this ses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70c0"/>
                </a:solidFill>
                <a:latin typeface="Calibri"/>
              </a:rPr>
              <a:t>Money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50"/>
                </a:solidFill>
                <a:latin typeface="Calibri"/>
              </a:rPr>
              <a:t>What is ‘money’?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50"/>
                </a:solidFill>
                <a:latin typeface="Calibri"/>
              </a:rPr>
              <a:t>Where does it come from?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50"/>
                </a:solidFill>
                <a:latin typeface="Calibri"/>
              </a:rPr>
              <a:t>What are the consequences of this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50"/>
                </a:solidFill>
                <a:latin typeface="Calibri"/>
              </a:rPr>
              <a:t>Can it/should it be reforme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b05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70c0"/>
                </a:solidFill>
                <a:latin typeface="Calibri"/>
              </a:rPr>
              <a:t>Banking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50"/>
                </a:solidFill>
                <a:latin typeface="Calibri"/>
              </a:rPr>
              <a:t>What do banks do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50"/>
                </a:solidFill>
                <a:latin typeface="Calibri"/>
              </a:rPr>
              <a:t>Do we need banks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50"/>
                </a:solidFill>
                <a:latin typeface="Calibri"/>
              </a:rPr>
              <a:t>Could there be a ‘good’ bank?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Debt and interest: these issues raise moral questions – I can only suggest some ways of thinking about the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How does a bank account work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When we ‘put money’ into a bank account, does the bank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Put it into a box marked with our name (so we can get it later)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Simply note that we have this amount of money to draw 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What else do banks do – some answers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Provide means to make pay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Provide overdrafts, loans and mortg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Provide savings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What else do banks d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Could we manage without bank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Some questions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What is ‘money’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What (in banking terms) is ‘liquidity’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[These questions are related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Some more ques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What are a bank’s (financial) asse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What are its liabiliti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Does a bank ‘lend’ the money which its depositors have placed with i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Should banks charge interest on a loan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Here’s Ben Dyson of the (British) </a:t>
            </a:r>
            <a:r>
              <a:rPr b="1" i="1" lang="en-GB" sz="2400" spc="-1" strike="noStrike">
                <a:solidFill>
                  <a:srgbClr val="ff0000"/>
                </a:solidFill>
                <a:latin typeface="Calibri"/>
              </a:rPr>
              <a:t>Positive Money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Campaign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This is based on UK experience, but the Euro system is (with some changes) the same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98989"/>
                </a:solidFill>
                <a:latin typeface="Calibri"/>
              </a:rPr>
              <a:t>https://www.youtube.com/watch?v=nc6kKOGp56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OK – let’s reflect on th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Can we put this in (other) simple ter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What are the consequence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Should it be reform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12:24:20Z</dcterms:created>
  <dc:creator>Tony Weekes</dc:creator>
  <dc:description/>
  <dc:language>en-US</dc:language>
  <cp:lastModifiedBy>Tony Weekes</cp:lastModifiedBy>
  <cp:lastPrinted>2013-02-17T11:15:42Z</cp:lastPrinted>
  <dcterms:modified xsi:type="dcterms:W3CDTF">2013-02-17T12:15:43Z</dcterms:modified>
  <cp:revision>14</cp:revision>
  <dc:subject/>
  <dc:title>PowerPoint Presentation</dc:title>
</cp:coreProperties>
</file>