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96EE-51F2-4DE3-B887-E0BBA64FB0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67D3-826D-45F5-99FE-11158460587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557D-C73F-4356-8D73-A8AFABF5B9B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6E5A-1AF2-4A22-BA46-2854B35417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6047-7B70-474B-B61A-C8F9C282AE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D10A-4F60-454B-8965-F67BB1D168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0430-CC9C-4CD5-8CE2-757DB7B8599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307B-E00B-4476-BD83-5909D232E5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2A50-9322-4AD3-AF9E-6CE33D83BA2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5BDA-4407-4DF1-BBA7-B9A6A6CCD8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5CDC-9F55-47B6-BB88-831D2CA4F84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182A-0F0E-4A4B-89EC-F1DCDB1188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9A9D-5E48-4929-8C44-FE7F3D3441E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AF5F-DCCA-4E25-9EC0-BCA129FB2A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E651-DCD4-4BCA-AE99-955E7A2412E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74AB-FA7E-4F08-B459-1860465E8D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94FD-55D6-4236-865B-3A4125CD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2CE2-1747-405B-9C64-365E372C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9194-3FF7-4724-9E28-BA628489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BC82-133A-4ACA-9E1E-0E7F034E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219-E349-4864-84E6-7905B2E8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76EF-A6EE-42F0-A919-4AB1C7A0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259A-7EBD-4AA3-AFD4-249520F2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A13D-F0C0-44D1-9AC6-7158C0E7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FDC3-67F6-4D61-B9E9-FB636AA1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CA4F-5E3F-4D02-851D-0FB93A2E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AB21-5876-455D-BC13-AB899ECA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E9EF-4449-4B93-A06A-B2CFA220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31D7-E5DA-43DC-AAB5-6981677056E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zeri.org/images/ZERI_Brewery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zeri.org/ZERI/Beer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116000" y="333360"/>
            <a:ext cx="6551640" cy="64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f81bd"/>
                </a:solidFill>
                <a:latin typeface="Calibri"/>
              </a:rPr>
              <a:t>Library Communiveris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81bd"/>
                </a:solidFill>
                <a:latin typeface="Calibri"/>
              </a:rPr>
              <a:t>Open Learning Cou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The Economy and Us: week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What is ‘capital’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The ‘conventional’ 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An extended 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What are the ‘flows’ in an econom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The ‘conventional’ 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An extended view – the basis of an ecological </a:t>
            </a: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econom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The implications of the ecological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QUB P&amp;SD 2011/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F972-25D6-4CFB-A7EA-43BEF967D29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libri"/>
              </a:rPr>
              <a:t>Comments on the ‘conventional’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Output is of two types: ‘consumption’ and investment. </a:t>
            </a:r>
            <a:r>
              <a:rPr b="1" i="1" lang="en-GB" sz="3200" spc="-1" strike="noStrike">
                <a:solidFill>
                  <a:srgbClr val="0070c0"/>
                </a:solidFill>
                <a:latin typeface="Calibri"/>
              </a:rPr>
              <a:t>Split between the two determined by ‘economic policy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No mention of ’waste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No mention of resource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‘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Welfare’ solely a function of consum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ords again: ‘ecological’ or ‘environmental’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250920" y="184464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Ecological’ preferred;  it suggests a powerful concern to recognise and integrat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Flows in an ecological econom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8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1370160" y="2519280"/>
            <a:ext cx="6281640" cy="3137040"/>
            <a:chOff x="1370160" y="2519280"/>
            <a:chExt cx="6281640" cy="3137040"/>
          </a:xfrm>
        </p:grpSpPr>
        <p:sp>
          <p:nvSpPr>
            <p:cNvPr id="109" name="AutoShape 84"/>
            <p:cNvSpPr/>
            <p:nvPr/>
          </p:nvSpPr>
          <p:spPr>
            <a:xfrm>
              <a:off x="1370160" y="2519280"/>
              <a:ext cx="6281640" cy="31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Line 83"/>
            <p:cNvSpPr/>
            <p:nvPr/>
          </p:nvSpPr>
          <p:spPr>
            <a:xfrm flipH="1">
              <a:off x="1729800" y="5308560"/>
              <a:ext cx="55764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Oval 82"/>
            <p:cNvSpPr/>
            <p:nvPr/>
          </p:nvSpPr>
          <p:spPr>
            <a:xfrm>
              <a:off x="1375200" y="3026520"/>
              <a:ext cx="675720" cy="59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Solar Energy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Rectangle 81"/>
            <p:cNvSpPr/>
            <p:nvPr/>
          </p:nvSpPr>
          <p:spPr>
            <a:xfrm>
              <a:off x="2405880" y="3618360"/>
              <a:ext cx="1520640" cy="106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 Narrow"/>
                  <a:ea typeface="Times New Roman"/>
                </a:rPr>
                <a:t>Natural Capita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 Narrow"/>
                </a:rPr>
                <a:t>Human Capita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 Narrow"/>
                  <a:ea typeface="Times New Roman"/>
                </a:rPr>
                <a:t>Social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 Narrow"/>
                  <a:ea typeface="Times New Roman"/>
                </a:rPr>
                <a:t>Capita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 Narrow"/>
                  <a:ea typeface="Times New Roman"/>
                </a:rPr>
                <a:t>Manufactured capita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AutoShape 80"/>
            <p:cNvSpPr/>
            <p:nvPr/>
          </p:nvSpPr>
          <p:spPr>
            <a:xfrm>
              <a:off x="4518360" y="3364560"/>
              <a:ext cx="930960" cy="9248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conomic Production processes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Rectangle 79"/>
            <p:cNvSpPr/>
            <p:nvPr/>
          </p:nvSpPr>
          <p:spPr>
            <a:xfrm>
              <a:off x="4687200" y="2785320"/>
              <a:ext cx="659880" cy="29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cological service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AutoShape 78"/>
            <p:cNvSpPr/>
            <p:nvPr/>
          </p:nvSpPr>
          <p:spPr>
            <a:xfrm>
              <a:off x="6177960" y="2523960"/>
              <a:ext cx="1235160" cy="3042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Well-being: individual and communit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Rectangle 77"/>
            <p:cNvSpPr/>
            <p:nvPr/>
          </p:nvSpPr>
          <p:spPr>
            <a:xfrm>
              <a:off x="5755680" y="3706920"/>
              <a:ext cx="760320" cy="25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Goods and Service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76"/>
            <p:cNvSpPr/>
            <p:nvPr/>
          </p:nvSpPr>
          <p:spPr>
            <a:xfrm>
              <a:off x="5954760" y="3280320"/>
              <a:ext cx="844560" cy="25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Waste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Oval 75"/>
            <p:cNvSpPr/>
            <p:nvPr/>
          </p:nvSpPr>
          <p:spPr>
            <a:xfrm>
              <a:off x="7022880" y="3453840"/>
              <a:ext cx="529920" cy="531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Policy and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Culture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Line 74"/>
            <p:cNvSpPr/>
            <p:nvPr/>
          </p:nvSpPr>
          <p:spPr>
            <a:xfrm>
              <a:off x="6684840" y="3538080"/>
              <a:ext cx="0" cy="19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73"/>
            <p:cNvSpPr/>
            <p:nvPr/>
          </p:nvSpPr>
          <p:spPr>
            <a:xfrm>
              <a:off x="6346800" y="5481720"/>
              <a:ext cx="675720" cy="16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Waste hea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Line 72"/>
            <p:cNvSpPr/>
            <p:nvPr/>
          </p:nvSpPr>
          <p:spPr>
            <a:xfrm>
              <a:off x="6516000" y="3791160"/>
              <a:ext cx="50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Line 71"/>
            <p:cNvSpPr/>
            <p:nvPr/>
          </p:nvSpPr>
          <p:spPr>
            <a:xfrm>
              <a:off x="2376000" y="3285000"/>
              <a:ext cx="42228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Line 70"/>
            <p:cNvSpPr/>
            <p:nvPr/>
          </p:nvSpPr>
          <p:spPr>
            <a:xfrm flipV="1">
              <a:off x="5447520" y="3364200"/>
              <a:ext cx="0" cy="422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Line 69"/>
            <p:cNvSpPr/>
            <p:nvPr/>
          </p:nvSpPr>
          <p:spPr>
            <a:xfrm>
              <a:off x="5447520" y="3364560"/>
              <a:ext cx="42228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68"/>
            <p:cNvSpPr/>
            <p:nvPr/>
          </p:nvSpPr>
          <p:spPr>
            <a:xfrm>
              <a:off x="5447520" y="3364560"/>
              <a:ext cx="0" cy="422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67"/>
            <p:cNvSpPr/>
            <p:nvPr/>
          </p:nvSpPr>
          <p:spPr>
            <a:xfrm flipV="1">
              <a:off x="5447520" y="3364560"/>
              <a:ext cx="0" cy="50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66"/>
            <p:cNvSpPr/>
            <p:nvPr/>
          </p:nvSpPr>
          <p:spPr>
            <a:xfrm>
              <a:off x="5447520" y="3364560"/>
              <a:ext cx="0" cy="50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65"/>
            <p:cNvSpPr/>
            <p:nvPr/>
          </p:nvSpPr>
          <p:spPr>
            <a:xfrm>
              <a:off x="5447160" y="3819960"/>
              <a:ext cx="3380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64"/>
            <p:cNvSpPr/>
            <p:nvPr/>
          </p:nvSpPr>
          <p:spPr>
            <a:xfrm>
              <a:off x="1983600" y="3533760"/>
              <a:ext cx="253440" cy="168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63"/>
            <p:cNvSpPr/>
            <p:nvPr/>
          </p:nvSpPr>
          <p:spPr>
            <a:xfrm>
              <a:off x="2237040" y="3871800"/>
              <a:ext cx="1605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62"/>
            <p:cNvSpPr/>
            <p:nvPr/>
          </p:nvSpPr>
          <p:spPr>
            <a:xfrm>
              <a:off x="2237040" y="4125240"/>
              <a:ext cx="1605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61"/>
            <p:cNvSpPr/>
            <p:nvPr/>
          </p:nvSpPr>
          <p:spPr>
            <a:xfrm>
              <a:off x="2237040" y="4378680"/>
              <a:ext cx="1605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60"/>
            <p:cNvSpPr/>
            <p:nvPr/>
          </p:nvSpPr>
          <p:spPr>
            <a:xfrm>
              <a:off x="2067840" y="3449160"/>
              <a:ext cx="337680" cy="253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Line 59"/>
            <p:cNvSpPr/>
            <p:nvPr/>
          </p:nvSpPr>
          <p:spPr>
            <a:xfrm>
              <a:off x="2405880" y="3871800"/>
              <a:ext cx="152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Line 58"/>
            <p:cNvSpPr/>
            <p:nvPr/>
          </p:nvSpPr>
          <p:spPr>
            <a:xfrm>
              <a:off x="2405880" y="4125240"/>
              <a:ext cx="1605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Line 57"/>
            <p:cNvSpPr/>
            <p:nvPr/>
          </p:nvSpPr>
          <p:spPr>
            <a:xfrm>
              <a:off x="2405880" y="4378680"/>
              <a:ext cx="152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Line 56"/>
            <p:cNvSpPr/>
            <p:nvPr/>
          </p:nvSpPr>
          <p:spPr>
            <a:xfrm>
              <a:off x="2405880" y="4125240"/>
              <a:ext cx="152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Line 55"/>
            <p:cNvSpPr/>
            <p:nvPr/>
          </p:nvSpPr>
          <p:spPr>
            <a:xfrm>
              <a:off x="1983600" y="3449160"/>
              <a:ext cx="42228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Line 54"/>
            <p:cNvSpPr/>
            <p:nvPr/>
          </p:nvSpPr>
          <p:spPr>
            <a:xfrm>
              <a:off x="5447520" y="2773080"/>
              <a:ext cx="760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Line 53"/>
            <p:cNvSpPr/>
            <p:nvPr/>
          </p:nvSpPr>
          <p:spPr>
            <a:xfrm>
              <a:off x="7306560" y="3956400"/>
              <a:ext cx="0" cy="1352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Line 52"/>
            <p:cNvSpPr/>
            <p:nvPr/>
          </p:nvSpPr>
          <p:spPr>
            <a:xfrm flipV="1">
              <a:off x="1729800" y="3871800"/>
              <a:ext cx="0" cy="1436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 Box 51"/>
            <p:cNvSpPr/>
            <p:nvPr/>
          </p:nvSpPr>
          <p:spPr>
            <a:xfrm>
              <a:off x="2575080" y="5223960"/>
              <a:ext cx="4055400" cy="22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Restoration/Conservation of natural capital; Education and training of human capital; developing mutuality and trust; 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investment in manufactured capital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Line 50"/>
            <p:cNvSpPr/>
            <p:nvPr/>
          </p:nvSpPr>
          <p:spPr>
            <a:xfrm flipH="1">
              <a:off x="1729440" y="5308560"/>
              <a:ext cx="84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Line 49"/>
            <p:cNvSpPr/>
            <p:nvPr/>
          </p:nvSpPr>
          <p:spPr>
            <a:xfrm flipH="1">
              <a:off x="6630120" y="5308560"/>
              <a:ext cx="67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Line 48"/>
            <p:cNvSpPr/>
            <p:nvPr/>
          </p:nvSpPr>
          <p:spPr>
            <a:xfrm flipV="1">
              <a:off x="1729800" y="3786840"/>
              <a:ext cx="0" cy="15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Line 47"/>
            <p:cNvSpPr/>
            <p:nvPr/>
          </p:nvSpPr>
          <p:spPr>
            <a:xfrm>
              <a:off x="1729800" y="3787200"/>
              <a:ext cx="67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Line 46"/>
            <p:cNvSpPr/>
            <p:nvPr/>
          </p:nvSpPr>
          <p:spPr>
            <a:xfrm>
              <a:off x="1729800" y="4040640"/>
              <a:ext cx="67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Line 45"/>
            <p:cNvSpPr/>
            <p:nvPr/>
          </p:nvSpPr>
          <p:spPr>
            <a:xfrm>
              <a:off x="1729800" y="4294440"/>
              <a:ext cx="67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Line 44"/>
            <p:cNvSpPr/>
            <p:nvPr/>
          </p:nvSpPr>
          <p:spPr>
            <a:xfrm>
              <a:off x="1729800" y="4547880"/>
              <a:ext cx="67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Line 43"/>
            <p:cNvSpPr/>
            <p:nvPr/>
          </p:nvSpPr>
          <p:spPr>
            <a:xfrm>
              <a:off x="4264920" y="3618360"/>
              <a:ext cx="0" cy="1014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Line 42"/>
            <p:cNvSpPr/>
            <p:nvPr/>
          </p:nvSpPr>
          <p:spPr>
            <a:xfrm>
              <a:off x="4264920" y="3787200"/>
              <a:ext cx="0" cy="844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Line 41"/>
            <p:cNvSpPr/>
            <p:nvPr/>
          </p:nvSpPr>
          <p:spPr>
            <a:xfrm>
              <a:off x="3926880" y="3787200"/>
              <a:ext cx="33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Line 40"/>
            <p:cNvSpPr/>
            <p:nvPr/>
          </p:nvSpPr>
          <p:spPr>
            <a:xfrm>
              <a:off x="3926880" y="4040640"/>
              <a:ext cx="33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Line 39"/>
            <p:cNvSpPr/>
            <p:nvPr/>
          </p:nvSpPr>
          <p:spPr>
            <a:xfrm>
              <a:off x="3926880" y="4294440"/>
              <a:ext cx="337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Line 38"/>
            <p:cNvSpPr/>
            <p:nvPr/>
          </p:nvSpPr>
          <p:spPr>
            <a:xfrm>
              <a:off x="3926880" y="4463280"/>
              <a:ext cx="337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Line 37"/>
            <p:cNvSpPr/>
            <p:nvPr/>
          </p:nvSpPr>
          <p:spPr>
            <a:xfrm>
              <a:off x="4264920" y="3787200"/>
              <a:ext cx="0" cy="676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Line 36"/>
            <p:cNvSpPr/>
            <p:nvPr/>
          </p:nvSpPr>
          <p:spPr>
            <a:xfrm>
              <a:off x="3926880" y="4209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Line 35"/>
            <p:cNvSpPr/>
            <p:nvPr/>
          </p:nvSpPr>
          <p:spPr>
            <a:xfrm>
              <a:off x="3926880" y="4294440"/>
              <a:ext cx="33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Line 34"/>
            <p:cNvSpPr/>
            <p:nvPr/>
          </p:nvSpPr>
          <p:spPr>
            <a:xfrm>
              <a:off x="4264920" y="3787200"/>
              <a:ext cx="0" cy="76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Line 33"/>
            <p:cNvSpPr/>
            <p:nvPr/>
          </p:nvSpPr>
          <p:spPr>
            <a:xfrm>
              <a:off x="3926880" y="4547880"/>
              <a:ext cx="33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Line 32"/>
            <p:cNvSpPr/>
            <p:nvPr/>
          </p:nvSpPr>
          <p:spPr>
            <a:xfrm flipV="1">
              <a:off x="4264920" y="3786840"/>
              <a:ext cx="253440" cy="422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Line 31"/>
            <p:cNvSpPr/>
            <p:nvPr/>
          </p:nvSpPr>
          <p:spPr>
            <a:xfrm flipV="1">
              <a:off x="4264920" y="4040640"/>
              <a:ext cx="42228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Line 30"/>
            <p:cNvSpPr/>
            <p:nvPr/>
          </p:nvSpPr>
          <p:spPr>
            <a:xfrm flipV="1">
              <a:off x="4264920" y="3982680"/>
              <a:ext cx="422280" cy="16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Line 29"/>
            <p:cNvSpPr/>
            <p:nvPr/>
          </p:nvSpPr>
          <p:spPr>
            <a:xfrm>
              <a:off x="3926880" y="3702600"/>
              <a:ext cx="33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Line 28"/>
            <p:cNvSpPr/>
            <p:nvPr/>
          </p:nvSpPr>
          <p:spPr>
            <a:xfrm flipV="1">
              <a:off x="4264920" y="2773080"/>
              <a:ext cx="0" cy="929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Line 27"/>
            <p:cNvSpPr/>
            <p:nvPr/>
          </p:nvSpPr>
          <p:spPr>
            <a:xfrm>
              <a:off x="4264920" y="2773080"/>
              <a:ext cx="42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Text Box 26"/>
            <p:cNvSpPr/>
            <p:nvPr/>
          </p:nvSpPr>
          <p:spPr>
            <a:xfrm>
              <a:off x="2253240" y="2652480"/>
              <a:ext cx="1928880" cy="21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Positive impact on human capital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Line 25"/>
            <p:cNvSpPr/>
            <p:nvPr/>
          </p:nvSpPr>
          <p:spPr>
            <a:xfrm flipH="1">
              <a:off x="4180320" y="2688480"/>
              <a:ext cx="202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Line 24"/>
            <p:cNvSpPr/>
            <p:nvPr/>
          </p:nvSpPr>
          <p:spPr>
            <a:xfrm flipH="1">
              <a:off x="2067480" y="2773080"/>
              <a:ext cx="16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Line 23"/>
            <p:cNvSpPr/>
            <p:nvPr/>
          </p:nvSpPr>
          <p:spPr>
            <a:xfrm>
              <a:off x="2067840" y="2773080"/>
              <a:ext cx="0" cy="118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>
              <a:off x="2067840" y="3956400"/>
              <a:ext cx="33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Text Box 21"/>
            <p:cNvSpPr/>
            <p:nvPr/>
          </p:nvSpPr>
          <p:spPr>
            <a:xfrm>
              <a:off x="6899040" y="4294440"/>
              <a:ext cx="748080" cy="14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Investment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7306560" y="4040640"/>
              <a:ext cx="0" cy="253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Line 19"/>
            <p:cNvSpPr/>
            <p:nvPr/>
          </p:nvSpPr>
          <p:spPr>
            <a:xfrm>
              <a:off x="7306560" y="4463280"/>
              <a:ext cx="0" cy="84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Text Box 18"/>
            <p:cNvSpPr/>
            <p:nvPr/>
          </p:nvSpPr>
          <p:spPr>
            <a:xfrm>
              <a:off x="6899040" y="3111120"/>
              <a:ext cx="748080" cy="14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Consumption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Line 17"/>
            <p:cNvSpPr/>
            <p:nvPr/>
          </p:nvSpPr>
          <p:spPr>
            <a:xfrm flipV="1">
              <a:off x="7289640" y="3274200"/>
              <a:ext cx="72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Line 16"/>
            <p:cNvSpPr/>
            <p:nvPr/>
          </p:nvSpPr>
          <p:spPr>
            <a:xfrm flipH="1" flipV="1">
              <a:off x="6968520" y="2857680"/>
              <a:ext cx="33768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2659320" y="4885920"/>
              <a:ext cx="1596600" cy="16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Negative impact on all forms of capital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Line 14"/>
            <p:cNvSpPr/>
            <p:nvPr/>
          </p:nvSpPr>
          <p:spPr>
            <a:xfrm flipH="1">
              <a:off x="4771440" y="4970520"/>
              <a:ext cx="194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Line 13"/>
            <p:cNvSpPr/>
            <p:nvPr/>
          </p:nvSpPr>
          <p:spPr>
            <a:xfrm flipV="1">
              <a:off x="3166200" y="4632480"/>
              <a:ext cx="0" cy="253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Line 12"/>
            <p:cNvSpPr/>
            <p:nvPr/>
          </p:nvSpPr>
          <p:spPr>
            <a:xfrm flipV="1">
              <a:off x="3166200" y="4716360"/>
              <a:ext cx="0" cy="168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 flipV="1">
              <a:off x="3166200" y="4716360"/>
              <a:ext cx="0" cy="168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Line 10"/>
            <p:cNvSpPr/>
            <p:nvPr/>
          </p:nvSpPr>
          <p:spPr>
            <a:xfrm flipV="1">
              <a:off x="3166200" y="4716360"/>
              <a:ext cx="0" cy="16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Line 9"/>
            <p:cNvSpPr/>
            <p:nvPr/>
          </p:nvSpPr>
          <p:spPr>
            <a:xfrm flipV="1">
              <a:off x="4264920" y="2942280"/>
              <a:ext cx="0" cy="76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>
              <a:off x="4264920" y="294228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7"/>
            <p:cNvSpPr/>
            <p:nvPr/>
          </p:nvSpPr>
          <p:spPr>
            <a:xfrm flipV="1">
              <a:off x="5362920" y="2772720"/>
              <a:ext cx="844920" cy="16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6"/>
            <p:cNvSpPr/>
            <p:nvPr/>
          </p:nvSpPr>
          <p:spPr>
            <a:xfrm>
              <a:off x="6715080" y="49705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5"/>
            <p:cNvSpPr/>
            <p:nvPr/>
          </p:nvSpPr>
          <p:spPr>
            <a:xfrm flipH="1">
              <a:off x="4264920" y="4970520"/>
              <a:ext cx="245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4"/>
            <p:cNvSpPr/>
            <p:nvPr/>
          </p:nvSpPr>
          <p:spPr>
            <a:xfrm>
              <a:off x="7289640" y="3969720"/>
              <a:ext cx="3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3"/>
            <p:cNvSpPr/>
            <p:nvPr/>
          </p:nvSpPr>
          <p:spPr>
            <a:xfrm>
              <a:off x="5397840" y="3862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2"/>
            <p:cNvSpPr/>
            <p:nvPr/>
          </p:nvSpPr>
          <p:spPr>
            <a:xfrm flipV="1">
              <a:off x="5416200" y="3448800"/>
              <a:ext cx="516240" cy="3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QUB P&amp;SD 2011/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FDE1-3EBB-4910-A1AD-952C0958427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uch more to say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Four distinct kinds of capitals now explic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Investment – to maintain stocks of each – is a requirement (including ourselves!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Waste – and waste energy (heat) is recogni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Well-being” is a function of several ‘outputs’, not just consum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Solar energy drives the whole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Waste … what can we say about i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What is it?  How does it ari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What waste streams can we identif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Why is it a bad th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Can we do anything about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ynergy/symbiosis – spent grains in a brew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4" descr="http://www.zeri.org/ZERI/Beer_files/ZERI_Brewery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90760" y="1843200"/>
            <a:ext cx="4362480" cy="31716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5"/>
          <p:cNvSpPr/>
          <p:nvPr/>
        </p:nvSpPr>
        <p:spPr>
          <a:xfrm>
            <a:off x="1187280" y="566100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zeri.org/ZERI/Beer.html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1332000" y="69228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What is ‘capital’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971640" y="1628640"/>
            <a:ext cx="777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broad ter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 ‘stock’ of something which has the ability to produce a flow of economically desirable </a:t>
            </a:r>
            <a:r>
              <a:rPr b="0" lang="en-GB" sz="2400" spc="-1" strike="noStrike">
                <a:solidFill>
                  <a:srgbClr val="0070c0"/>
                </a:solidFill>
                <a:latin typeface="Calibri"/>
              </a:rPr>
              <a:t>outpu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alibri"/>
              </a:rPr>
              <a:t>It depreciates over time, but can be renew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A house: </a:t>
            </a:r>
            <a:r>
              <a:rPr b="0" lang="en-GB" sz="2400" spc="-1" strike="noStrike">
                <a:solidFill>
                  <a:srgbClr val="0070c0"/>
                </a:solidFill>
                <a:latin typeface="Calibri"/>
              </a:rPr>
              <a:t>produces over time a ‘flow’ of ‘shelter services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A car: </a:t>
            </a:r>
            <a:r>
              <a:rPr b="0" lang="en-GB" sz="2400" spc="-1" strike="noStrike">
                <a:solidFill>
                  <a:srgbClr val="0070c0"/>
                </a:solidFill>
                <a:latin typeface="Calibri"/>
              </a:rPr>
              <a:t>produces a ‘flow’ of transport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042920" y="765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onventional economics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684360" y="1844640"/>
            <a:ext cx="78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cognises two kinds of capit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alibri"/>
              </a:rPr>
              <a:t>Fixed, ‘human made’ or physical capital – machinery, roads, buildings, various kinds of equipment,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alibri"/>
              </a:rPr>
              <a:t>Financial capital: The financial (monetary) counterpart of ‘physical’ capital; the title to ow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This latter usage is rather misleading – ‘finance’ is a further remove from practical us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n extended definition recognises mo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Natural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Human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Social capit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(plus – the ‘conventional’ physical capit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atural Capital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… 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the services of the environment around us – 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Trees and plants take in carbon dioxide and produce oxy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Earthworms regenerate the so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Microbes break down our was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…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[Your own examples?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Natural capital is a gift – and is easily damage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uman capital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… 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ourselves! Peo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having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ethical pos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the ability to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think a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design and inv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the ability to learn and ada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cial capit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The ability to work together, identify and meet needs, settle disagreements/disp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Physical/manufactured capital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As noted earlier – buildings, machines, roads,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8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1619280" y="2394000"/>
            <a:ext cx="5611680" cy="3367080"/>
            <a:chOff x="1619280" y="2394000"/>
            <a:chExt cx="5611680" cy="3367080"/>
          </a:xfrm>
        </p:grpSpPr>
        <p:sp>
          <p:nvSpPr>
            <p:cNvPr id="65" name="AutoShape 37"/>
            <p:cNvSpPr/>
            <p:nvPr/>
          </p:nvSpPr>
          <p:spPr>
            <a:xfrm>
              <a:off x="1619280" y="2394000"/>
              <a:ext cx="5611680" cy="33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AutoShape 36"/>
            <p:cNvSpPr/>
            <p:nvPr/>
          </p:nvSpPr>
          <p:spPr>
            <a:xfrm>
              <a:off x="3701160" y="3708360"/>
              <a:ext cx="989640" cy="9910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conomic production processes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35"/>
            <p:cNvSpPr/>
            <p:nvPr/>
          </p:nvSpPr>
          <p:spPr>
            <a:xfrm>
              <a:off x="4924440" y="4080960"/>
              <a:ext cx="64188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Goods and services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AutoShape 34"/>
            <p:cNvSpPr/>
            <p:nvPr/>
          </p:nvSpPr>
          <p:spPr>
            <a:xfrm>
              <a:off x="6278760" y="3871080"/>
              <a:ext cx="673200" cy="67284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conomic 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AutoShape 33"/>
            <p:cNvSpPr/>
            <p:nvPr/>
          </p:nvSpPr>
          <p:spPr>
            <a:xfrm>
              <a:off x="6251400" y="2834280"/>
              <a:ext cx="723240" cy="48168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Individual welfa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32"/>
            <p:cNvSpPr/>
            <p:nvPr/>
          </p:nvSpPr>
          <p:spPr>
            <a:xfrm>
              <a:off x="2170080" y="4026960"/>
              <a:ext cx="1020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Line 31"/>
            <p:cNvSpPr/>
            <p:nvPr/>
          </p:nvSpPr>
          <p:spPr>
            <a:xfrm>
              <a:off x="2170080" y="4230360"/>
              <a:ext cx="1020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30"/>
            <p:cNvSpPr/>
            <p:nvPr/>
          </p:nvSpPr>
          <p:spPr>
            <a:xfrm>
              <a:off x="2271960" y="3925080"/>
              <a:ext cx="10202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Manufactured capital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Labou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Land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29"/>
            <p:cNvSpPr/>
            <p:nvPr/>
          </p:nvSpPr>
          <p:spPr>
            <a:xfrm>
              <a:off x="2271960" y="4127760"/>
              <a:ext cx="102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>
              <a:off x="2271960" y="4332600"/>
              <a:ext cx="102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Line 27"/>
            <p:cNvSpPr/>
            <p:nvPr/>
          </p:nvSpPr>
          <p:spPr>
            <a:xfrm>
              <a:off x="3292560" y="402696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Line 26"/>
            <p:cNvSpPr/>
            <p:nvPr/>
          </p:nvSpPr>
          <p:spPr>
            <a:xfrm>
              <a:off x="3496680" y="4026960"/>
              <a:ext cx="0" cy="40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3292560" y="423036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24"/>
            <p:cNvSpPr/>
            <p:nvPr/>
          </p:nvSpPr>
          <p:spPr>
            <a:xfrm>
              <a:off x="3292560" y="443484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23"/>
            <p:cNvSpPr/>
            <p:nvPr/>
          </p:nvSpPr>
          <p:spPr>
            <a:xfrm>
              <a:off x="3496680" y="4195440"/>
              <a:ext cx="2044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Line 22"/>
            <p:cNvSpPr/>
            <p:nvPr/>
          </p:nvSpPr>
          <p:spPr>
            <a:xfrm>
              <a:off x="5559480" y="4195440"/>
              <a:ext cx="728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tangle 21"/>
            <p:cNvSpPr/>
            <p:nvPr/>
          </p:nvSpPr>
          <p:spPr>
            <a:xfrm>
              <a:off x="6278760" y="3516120"/>
              <a:ext cx="739080" cy="23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Consump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tangle 20"/>
            <p:cNvSpPr/>
            <p:nvPr/>
          </p:nvSpPr>
          <p:spPr>
            <a:xfrm>
              <a:off x="6278760" y="4740840"/>
              <a:ext cx="739080" cy="23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Investmen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6557400" y="3719880"/>
              <a:ext cx="0" cy="204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18"/>
            <p:cNvSpPr/>
            <p:nvPr/>
          </p:nvSpPr>
          <p:spPr>
            <a:xfrm flipV="1">
              <a:off x="6609240" y="3312360"/>
              <a:ext cx="3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17"/>
            <p:cNvSpPr/>
            <p:nvPr/>
          </p:nvSpPr>
          <p:spPr>
            <a:xfrm>
              <a:off x="6557400" y="4536720"/>
              <a:ext cx="0" cy="204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2680200" y="5149080"/>
              <a:ext cx="1938600" cy="20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‘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Fixed’ investment, training, land improvemen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Line 15"/>
            <p:cNvSpPr/>
            <p:nvPr/>
          </p:nvSpPr>
          <p:spPr>
            <a:xfrm flipH="1">
              <a:off x="2067840" y="5250960"/>
              <a:ext cx="61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Line 14"/>
            <p:cNvSpPr/>
            <p:nvPr/>
          </p:nvSpPr>
          <p:spPr>
            <a:xfrm flipV="1">
              <a:off x="2067840" y="4026240"/>
              <a:ext cx="0" cy="122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Line 13"/>
            <p:cNvSpPr/>
            <p:nvPr/>
          </p:nvSpPr>
          <p:spPr>
            <a:xfrm>
              <a:off x="2067840" y="402660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Line 12"/>
            <p:cNvSpPr/>
            <p:nvPr/>
          </p:nvSpPr>
          <p:spPr>
            <a:xfrm>
              <a:off x="2067840" y="423036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11"/>
            <p:cNvSpPr/>
            <p:nvPr/>
          </p:nvSpPr>
          <p:spPr>
            <a:xfrm>
              <a:off x="2067840" y="443484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10"/>
            <p:cNvSpPr/>
            <p:nvPr/>
          </p:nvSpPr>
          <p:spPr>
            <a:xfrm>
              <a:off x="6609240" y="4531680"/>
              <a:ext cx="36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Line 9"/>
            <p:cNvSpPr/>
            <p:nvPr/>
          </p:nvSpPr>
          <p:spPr>
            <a:xfrm>
              <a:off x="4687560" y="4280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Line 8"/>
            <p:cNvSpPr/>
            <p:nvPr/>
          </p:nvSpPr>
          <p:spPr>
            <a:xfrm>
              <a:off x="4687560" y="4195440"/>
              <a:ext cx="2509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Line 7"/>
            <p:cNvSpPr/>
            <p:nvPr/>
          </p:nvSpPr>
          <p:spPr>
            <a:xfrm>
              <a:off x="6573600" y="50342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Line 6"/>
            <p:cNvSpPr/>
            <p:nvPr/>
          </p:nvSpPr>
          <p:spPr>
            <a:xfrm flipV="1">
              <a:off x="6609240" y="3739680"/>
              <a:ext cx="36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Line 5"/>
            <p:cNvSpPr/>
            <p:nvPr/>
          </p:nvSpPr>
          <p:spPr>
            <a:xfrm>
              <a:off x="6609240" y="4979880"/>
              <a:ext cx="360" cy="2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Line 4"/>
            <p:cNvSpPr/>
            <p:nvPr/>
          </p:nvSpPr>
          <p:spPr>
            <a:xfrm flipH="1">
              <a:off x="4609080" y="5249160"/>
              <a:ext cx="19998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TextBox 11272"/>
          <p:cNvSpPr/>
          <p:nvPr/>
        </p:nvSpPr>
        <p:spPr>
          <a:xfrm>
            <a:off x="1116000" y="692280"/>
            <a:ext cx="669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Flows in the ‘conventional’ econom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1:19:40Z</dcterms:created>
  <dc:creator>Tony Weekes</dc:creator>
  <dc:description/>
  <dc:language>en-US</dc:language>
  <cp:lastModifiedBy>Tony Weekes</cp:lastModifiedBy>
  <dcterms:modified xsi:type="dcterms:W3CDTF">2013-02-11T12:11:09Z</dcterms:modified>
  <cp:revision>17</cp:revision>
  <dc:subject/>
  <dc:title>PowerPoint Presentation</dc:title>
</cp:coreProperties>
</file>