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1F76-8DCB-48F1-BDCC-2D9708C1F9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1E3-1DB0-404C-99D8-9DD88074F1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BB6B-5D14-49FD-9221-1FD1DBBC85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AC9-F2F7-46A6-9206-BBC1F40AF9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D24-84A6-4876-A952-91CBCBAF8B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504F-11B6-43E9-9D4F-03B64D5D9D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F7A1-49D0-4486-AAF2-8924E31CA7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C33-D26E-4C8F-9D9A-95D07CA2C6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026D-CB2F-417F-B240-32F36413C0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3EF4-5F5B-4890-9DE8-C6CC5FAA47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537-A2BE-4847-A250-E6A88B8F02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0494-E59C-451F-9E22-F51EE2E405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9E2-0596-4A54-B359-ACEA598169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A43-B06A-4F07-B66C-DB24E5A2C8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101-7A35-4FF1-8096-9C5AD08652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32D-4A98-49E6-A8DE-C1B2E5BAD0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756-EB13-40C7-8742-75FA3DE1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30B-5EA2-4E85-A1C2-81537B16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F12-438D-4C2B-AC22-1B4EB717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67B-0E8F-4F93-9CD5-4EF7E66B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A94-B20E-4C5E-ABCB-2A4DE8D8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BCC-5642-40E7-904A-55C82D9C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38D-4E64-4915-94AD-517FC840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10B-6C0F-4ADA-AFC7-06AE856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7C5-7E2D-4EFA-BDEF-21884681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9DB-E762-4995-8548-A02D21C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A04-1B1B-4155-A43D-2B889C4F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B56-C863-4739-928C-CE99024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8B15-68D1-44C6-A9E1-305E95A5A7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zeri.org/images/ZERI_Brewery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zeri.org/ZERI/Bee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116000" y="333360"/>
            <a:ext cx="6551640" cy="64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What is ‘capital’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‘conventional’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An extended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What are the ‘flows’ in an econom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‘conventional’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An extended view – the basis of an ecological 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implications of the ecolog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QUB P&amp;SD 2011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7B1-12DF-4747-9726-3ECB030F20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Comments on the ‘conventional’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Output is of two types: ‘consumption’ and investment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Split between the two determined by ‘economic policy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o mention of ’wast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o mention of resource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elfare’ solely a function of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ords again: ‘ecological’ or ‘environmental’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50920" y="184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cological’ preferred;  it suggests a powerful concern to recognise and integra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lows in an ecological econom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1370160" y="2519280"/>
            <a:ext cx="6281640" cy="3137040"/>
            <a:chOff x="1370160" y="2519280"/>
            <a:chExt cx="6281640" cy="3137040"/>
          </a:xfrm>
        </p:grpSpPr>
        <p:sp>
          <p:nvSpPr>
            <p:cNvPr id="109" name="AutoShape 84"/>
            <p:cNvSpPr/>
            <p:nvPr/>
          </p:nvSpPr>
          <p:spPr>
            <a:xfrm>
              <a:off x="1370160" y="2519280"/>
              <a:ext cx="6281640" cy="31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83"/>
            <p:cNvSpPr/>
            <p:nvPr/>
          </p:nvSpPr>
          <p:spPr>
            <a:xfrm flipH="1">
              <a:off x="1729800" y="5308560"/>
              <a:ext cx="5576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82"/>
            <p:cNvSpPr/>
            <p:nvPr/>
          </p:nvSpPr>
          <p:spPr>
            <a:xfrm>
              <a:off x="1375200" y="3026520"/>
              <a:ext cx="675720" cy="59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olar Energy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1"/>
            <p:cNvSpPr/>
            <p:nvPr/>
          </p:nvSpPr>
          <p:spPr>
            <a:xfrm>
              <a:off x="2405880" y="3618360"/>
              <a:ext cx="1520640" cy="10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Natural 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</a:rPr>
                <a:t>Human 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Socia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Manufactured capita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80"/>
            <p:cNvSpPr/>
            <p:nvPr/>
          </p:nvSpPr>
          <p:spPr>
            <a:xfrm>
              <a:off x="4518360" y="3364560"/>
              <a:ext cx="930960" cy="92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nomic Production processe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4687200" y="2785320"/>
              <a:ext cx="65988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logical servic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78"/>
            <p:cNvSpPr/>
            <p:nvPr/>
          </p:nvSpPr>
          <p:spPr>
            <a:xfrm>
              <a:off x="6177960" y="2523960"/>
              <a:ext cx="1235160" cy="30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ell-being: individual and communit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77"/>
            <p:cNvSpPr/>
            <p:nvPr/>
          </p:nvSpPr>
          <p:spPr>
            <a:xfrm>
              <a:off x="5755680" y="3706920"/>
              <a:ext cx="760320" cy="25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oods and Service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76"/>
            <p:cNvSpPr/>
            <p:nvPr/>
          </p:nvSpPr>
          <p:spPr>
            <a:xfrm>
              <a:off x="5954760" y="3280320"/>
              <a:ext cx="844560" cy="25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ast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5"/>
            <p:cNvSpPr/>
            <p:nvPr/>
          </p:nvSpPr>
          <p:spPr>
            <a:xfrm>
              <a:off x="7022880" y="3453840"/>
              <a:ext cx="529920" cy="53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licy and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ultur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74"/>
            <p:cNvSpPr/>
            <p:nvPr/>
          </p:nvSpPr>
          <p:spPr>
            <a:xfrm>
              <a:off x="6684840" y="3538080"/>
              <a:ext cx="0" cy="19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73"/>
            <p:cNvSpPr/>
            <p:nvPr/>
          </p:nvSpPr>
          <p:spPr>
            <a:xfrm>
              <a:off x="6346800" y="5481720"/>
              <a:ext cx="675720" cy="16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aste hea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72"/>
            <p:cNvSpPr/>
            <p:nvPr/>
          </p:nvSpPr>
          <p:spPr>
            <a:xfrm>
              <a:off x="6516000" y="3791160"/>
              <a:ext cx="50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71"/>
            <p:cNvSpPr/>
            <p:nvPr/>
          </p:nvSpPr>
          <p:spPr>
            <a:xfrm>
              <a:off x="2376000" y="3285000"/>
              <a:ext cx="42228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70"/>
            <p:cNvSpPr/>
            <p:nvPr/>
          </p:nvSpPr>
          <p:spPr>
            <a:xfrm flipV="1">
              <a:off x="5447520" y="3364200"/>
              <a:ext cx="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5447520" y="3364560"/>
              <a:ext cx="42228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68"/>
            <p:cNvSpPr/>
            <p:nvPr/>
          </p:nvSpPr>
          <p:spPr>
            <a:xfrm>
              <a:off x="5447520" y="3364560"/>
              <a:ext cx="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67"/>
            <p:cNvSpPr/>
            <p:nvPr/>
          </p:nvSpPr>
          <p:spPr>
            <a:xfrm flipV="1">
              <a:off x="5447520" y="3364560"/>
              <a:ext cx="0" cy="50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66"/>
            <p:cNvSpPr/>
            <p:nvPr/>
          </p:nvSpPr>
          <p:spPr>
            <a:xfrm>
              <a:off x="5447520" y="3364560"/>
              <a:ext cx="0" cy="50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65"/>
            <p:cNvSpPr/>
            <p:nvPr/>
          </p:nvSpPr>
          <p:spPr>
            <a:xfrm>
              <a:off x="5447160" y="3819960"/>
              <a:ext cx="338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64"/>
            <p:cNvSpPr/>
            <p:nvPr/>
          </p:nvSpPr>
          <p:spPr>
            <a:xfrm>
              <a:off x="1983600" y="3533760"/>
              <a:ext cx="253440" cy="16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63"/>
            <p:cNvSpPr/>
            <p:nvPr/>
          </p:nvSpPr>
          <p:spPr>
            <a:xfrm>
              <a:off x="2237040" y="387180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62"/>
            <p:cNvSpPr/>
            <p:nvPr/>
          </p:nvSpPr>
          <p:spPr>
            <a:xfrm>
              <a:off x="2237040" y="412524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61"/>
            <p:cNvSpPr/>
            <p:nvPr/>
          </p:nvSpPr>
          <p:spPr>
            <a:xfrm>
              <a:off x="2237040" y="437868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60"/>
            <p:cNvSpPr/>
            <p:nvPr/>
          </p:nvSpPr>
          <p:spPr>
            <a:xfrm>
              <a:off x="2067840" y="3449160"/>
              <a:ext cx="337680" cy="25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59"/>
            <p:cNvSpPr/>
            <p:nvPr/>
          </p:nvSpPr>
          <p:spPr>
            <a:xfrm>
              <a:off x="2405880" y="3871800"/>
              <a:ext cx="15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>
              <a:off x="2405880" y="4125240"/>
              <a:ext cx="1605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57"/>
            <p:cNvSpPr/>
            <p:nvPr/>
          </p:nvSpPr>
          <p:spPr>
            <a:xfrm>
              <a:off x="2405880" y="4378680"/>
              <a:ext cx="15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56"/>
            <p:cNvSpPr/>
            <p:nvPr/>
          </p:nvSpPr>
          <p:spPr>
            <a:xfrm>
              <a:off x="2405880" y="4125240"/>
              <a:ext cx="15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55"/>
            <p:cNvSpPr/>
            <p:nvPr/>
          </p:nvSpPr>
          <p:spPr>
            <a:xfrm>
              <a:off x="1983600" y="3449160"/>
              <a:ext cx="42228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54"/>
            <p:cNvSpPr/>
            <p:nvPr/>
          </p:nvSpPr>
          <p:spPr>
            <a:xfrm>
              <a:off x="5447520" y="2773080"/>
              <a:ext cx="760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53"/>
            <p:cNvSpPr/>
            <p:nvPr/>
          </p:nvSpPr>
          <p:spPr>
            <a:xfrm>
              <a:off x="7306560" y="3956400"/>
              <a:ext cx="0" cy="1352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52"/>
            <p:cNvSpPr/>
            <p:nvPr/>
          </p:nvSpPr>
          <p:spPr>
            <a:xfrm flipV="1">
              <a:off x="1729800" y="3871800"/>
              <a:ext cx="0" cy="143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51"/>
            <p:cNvSpPr/>
            <p:nvPr/>
          </p:nvSpPr>
          <p:spPr>
            <a:xfrm>
              <a:off x="2575080" y="5223960"/>
              <a:ext cx="4055400" cy="22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Restoration/Conservation of natural capital; Education and training of human capital; developing mutuality and trust;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vestment in manufactured capital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50"/>
            <p:cNvSpPr/>
            <p:nvPr/>
          </p:nvSpPr>
          <p:spPr>
            <a:xfrm flipH="1">
              <a:off x="1729440" y="53085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49"/>
            <p:cNvSpPr/>
            <p:nvPr/>
          </p:nvSpPr>
          <p:spPr>
            <a:xfrm flipH="1">
              <a:off x="6630120" y="530856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48"/>
            <p:cNvSpPr/>
            <p:nvPr/>
          </p:nvSpPr>
          <p:spPr>
            <a:xfrm flipV="1">
              <a:off x="1729800" y="3786840"/>
              <a:ext cx="0" cy="15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1729800" y="378720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>
              <a:off x="1729800" y="404064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729800" y="429444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44"/>
            <p:cNvSpPr/>
            <p:nvPr/>
          </p:nvSpPr>
          <p:spPr>
            <a:xfrm>
              <a:off x="1729800" y="4547880"/>
              <a:ext cx="6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4264920" y="3618360"/>
              <a:ext cx="0" cy="101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264920" y="3787200"/>
              <a:ext cx="0" cy="84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3926880" y="378720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>
              <a:off x="3926880" y="404064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3926880" y="4294440"/>
              <a:ext cx="33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3926880" y="4463280"/>
              <a:ext cx="33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37"/>
            <p:cNvSpPr/>
            <p:nvPr/>
          </p:nvSpPr>
          <p:spPr>
            <a:xfrm>
              <a:off x="4264920" y="3787200"/>
              <a:ext cx="0" cy="67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36"/>
            <p:cNvSpPr/>
            <p:nvPr/>
          </p:nvSpPr>
          <p:spPr>
            <a:xfrm>
              <a:off x="3926880" y="420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>
              <a:off x="3926880" y="429444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4264920" y="378720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3926880" y="454788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 flipV="1">
              <a:off x="4264920" y="3786840"/>
              <a:ext cx="25344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31"/>
            <p:cNvSpPr/>
            <p:nvPr/>
          </p:nvSpPr>
          <p:spPr>
            <a:xfrm flipV="1">
              <a:off x="4264920" y="4040640"/>
              <a:ext cx="42228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 flipV="1">
              <a:off x="4264920" y="3982680"/>
              <a:ext cx="4222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3926880" y="370260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 flipV="1">
              <a:off x="4264920" y="2773080"/>
              <a:ext cx="0" cy="929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>
              <a:off x="4264920" y="2773080"/>
              <a:ext cx="42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2253240" y="2652480"/>
              <a:ext cx="1928880" cy="21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sitive impact on human capit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H="1">
              <a:off x="4180320" y="2688480"/>
              <a:ext cx="20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24"/>
            <p:cNvSpPr/>
            <p:nvPr/>
          </p:nvSpPr>
          <p:spPr>
            <a:xfrm flipH="1">
              <a:off x="2067480" y="2773080"/>
              <a:ext cx="16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>
              <a:off x="2067840" y="2773080"/>
              <a:ext cx="0" cy="11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2067840" y="395640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6899040" y="4294440"/>
              <a:ext cx="74808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vestment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7306560" y="4040640"/>
              <a:ext cx="0" cy="25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7306560" y="4463280"/>
              <a:ext cx="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6899040" y="3111120"/>
              <a:ext cx="74808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onsumptio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 flipV="1">
              <a:off x="7289640" y="3274200"/>
              <a:ext cx="72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 flipH="1" flipV="1">
              <a:off x="6968520" y="2857680"/>
              <a:ext cx="33768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2659320" y="4885920"/>
              <a:ext cx="1596600" cy="16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Negative impact on all forms of capital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 flipH="1">
              <a:off x="4771440" y="4970520"/>
              <a:ext cx="194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 flipV="1">
              <a:off x="3166200" y="4632480"/>
              <a:ext cx="0" cy="25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V="1">
              <a:off x="3166200" y="4716360"/>
              <a:ext cx="0" cy="16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3166200" y="4716360"/>
              <a:ext cx="0" cy="16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V="1">
              <a:off x="3166200" y="4716360"/>
              <a:ext cx="0" cy="1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 flipV="1">
              <a:off x="4264920" y="294228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4264920" y="29422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5362920" y="2772720"/>
              <a:ext cx="844920" cy="1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6715080" y="4970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H="1">
              <a:off x="4264920" y="4970520"/>
              <a:ext cx="245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7289640" y="3969720"/>
              <a:ext cx="3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3"/>
            <p:cNvSpPr/>
            <p:nvPr/>
          </p:nvSpPr>
          <p:spPr>
            <a:xfrm>
              <a:off x="5397840" y="3862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"/>
            <p:cNvSpPr/>
            <p:nvPr/>
          </p:nvSpPr>
          <p:spPr>
            <a:xfrm flipV="1">
              <a:off x="5416200" y="3448800"/>
              <a:ext cx="5162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QUB P&amp;SD 2011/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8E1-A9E3-4C03-A6E8-5F9B67CFF0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ch more to say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Four distinct kinds of capitals now explic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Investment – to maintain stocks of each – is a requirement (including ourselves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Waste – and waste energy (heat) is recogn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Well-being” is a function of several ‘outputs’, not just consum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Solar energy drives the whol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aste … what can we say about 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is it?  How does it ari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waste streams can we identif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y is it a bad 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Can we do anything ab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ynergy/symbiosis – spent grains in a brew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http://www.zeri.org/ZERI/Beer_files/ZERI_Brewer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0760" y="1843200"/>
            <a:ext cx="4362480" cy="31716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1187280" y="566100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zeri.org/ZERI/Beer.htm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332000" y="692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is ‘capital’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71640" y="162864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broad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‘stock’ of something which has the ability to produce a flow of economically desirable 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outpu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It depreciates over time, but can be ren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house: 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produces over time a ‘flow’ of ‘shelter services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car: 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produces a ‘flow’ of transpor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042920" y="76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nventional economic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84360" y="184464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s two kinds of capit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Fixed, ‘human made’ or physical capital – machinery, roads, buildings, various kinds of equipment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Financial capital: The financial (monetary) counterpart of ‘physical’ capital; the title to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is latter usage is rather misleading – ‘finance’ is a further remove from practical us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n extended definition recognises m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atural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Human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Social capi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(plus – the ‘conventional’ physical capi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atural Capital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…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services of the environment around us –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rees and plants take in carbon dioxide and produc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Earthworms regenerate the s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Microbes break down our w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…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[Your own examples?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Natural capital is a gift – and is easily damag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uman capital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…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ourselves!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hav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ethical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ability to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ink a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design and in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ability to learn and ada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cial ca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ability to work together, identify and meet needs, settle disagreements/disp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hysical/manufactured capital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As noted earlier – buildings, machines, roads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19280" y="2394000"/>
            <a:ext cx="5611680" cy="3367080"/>
            <a:chOff x="1619280" y="2394000"/>
            <a:chExt cx="5611680" cy="3367080"/>
          </a:xfrm>
        </p:grpSpPr>
        <p:sp>
          <p:nvSpPr>
            <p:cNvPr id="65" name="AutoShape 37"/>
            <p:cNvSpPr/>
            <p:nvPr/>
          </p:nvSpPr>
          <p:spPr>
            <a:xfrm>
              <a:off x="1619280" y="2394000"/>
              <a:ext cx="5611680" cy="33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3701160" y="3708360"/>
              <a:ext cx="989640" cy="991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nomic production processe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35"/>
            <p:cNvSpPr/>
            <p:nvPr/>
          </p:nvSpPr>
          <p:spPr>
            <a:xfrm>
              <a:off x="4924440" y="4080960"/>
              <a:ext cx="64188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oods and service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34"/>
            <p:cNvSpPr/>
            <p:nvPr/>
          </p:nvSpPr>
          <p:spPr>
            <a:xfrm>
              <a:off x="6278760" y="3871080"/>
              <a:ext cx="673200" cy="6728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conomic 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33"/>
            <p:cNvSpPr/>
            <p:nvPr/>
          </p:nvSpPr>
          <p:spPr>
            <a:xfrm>
              <a:off x="6251400" y="2834280"/>
              <a:ext cx="723240" cy="4816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dividual welf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>
              <a:off x="2170080" y="4026960"/>
              <a:ext cx="102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2170080" y="4230360"/>
              <a:ext cx="102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2271960" y="3925080"/>
              <a:ext cx="10202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anufactured capital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abou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and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>
              <a:off x="2271960" y="4127760"/>
              <a:ext cx="10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2271960" y="4332600"/>
              <a:ext cx="102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27"/>
            <p:cNvSpPr/>
            <p:nvPr/>
          </p:nvSpPr>
          <p:spPr>
            <a:xfrm>
              <a:off x="3292560" y="40269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3496680" y="402696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3292560" y="423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24"/>
            <p:cNvSpPr/>
            <p:nvPr/>
          </p:nvSpPr>
          <p:spPr>
            <a:xfrm>
              <a:off x="3292560" y="44348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>
              <a:off x="3496680" y="4195440"/>
              <a:ext cx="204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>
              <a:off x="5559480" y="4195440"/>
              <a:ext cx="728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6278760" y="3516120"/>
              <a:ext cx="739080" cy="23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onsump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6278760" y="4740840"/>
              <a:ext cx="739080" cy="23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vestm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6557400" y="3719880"/>
              <a:ext cx="0" cy="20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 flipV="1">
              <a:off x="6609240" y="3312360"/>
              <a:ext cx="3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>
              <a:off x="6557400" y="4536720"/>
              <a:ext cx="0" cy="20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2680200" y="5149080"/>
              <a:ext cx="193860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‘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xed’ investment, training, land improvem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H="1">
              <a:off x="2067840" y="5250960"/>
              <a:ext cx="61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4"/>
            <p:cNvSpPr/>
            <p:nvPr/>
          </p:nvSpPr>
          <p:spPr>
            <a:xfrm flipV="1">
              <a:off x="2067840" y="4026240"/>
              <a:ext cx="0" cy="12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2067840" y="40266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2067840" y="423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2067840" y="44348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6609240" y="4531680"/>
              <a:ext cx="3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4687560" y="4280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4687560" y="4195440"/>
              <a:ext cx="250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6573600" y="5034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6"/>
            <p:cNvSpPr/>
            <p:nvPr/>
          </p:nvSpPr>
          <p:spPr>
            <a:xfrm flipV="1">
              <a:off x="6609240" y="3739680"/>
              <a:ext cx="36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6609240" y="4979880"/>
              <a:ext cx="36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4"/>
            <p:cNvSpPr/>
            <p:nvPr/>
          </p:nvSpPr>
          <p:spPr>
            <a:xfrm flipH="1">
              <a:off x="4609080" y="5249160"/>
              <a:ext cx="1999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11272"/>
          <p:cNvSpPr/>
          <p:nvPr/>
        </p:nvSpPr>
        <p:spPr>
          <a:xfrm>
            <a:off x="1116000" y="692280"/>
            <a:ext cx="66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lows in the ‘conventional’ econo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1:19:40Z</dcterms:created>
  <dc:creator>Tony Weekes</dc:creator>
  <dc:description/>
  <dc:language>en-US</dc:language>
  <cp:lastModifiedBy>Tony Weekes</cp:lastModifiedBy>
  <dcterms:modified xsi:type="dcterms:W3CDTF">2013-02-11T12:11:09Z</dcterms:modified>
  <cp:revision>17</cp:revision>
  <dc:subject/>
  <dc:title>PowerPoint Presentation</dc:title>
</cp:coreProperties>
</file>